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34E1-BA8A-4943-8B24-A26F5F387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CB9C-0B21-4672-AE4B-4C3B324E4B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2AA1-8DEC-4E87-843B-D61A60E73D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0A09-6913-458D-B66C-1AF1F2AB2F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7B46-08DD-4C49-9D4E-E6FBB352FE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39B7-69FC-46D5-849F-D52EB9D6DD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BB87-D4BD-46CD-9976-E68A805A53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36F1-2FBE-4D94-9EA3-324A185DDC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3DA7-56AE-4A89-B028-69D1F48C4D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F748-54F7-48D8-8810-E815C39373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4682-5B62-4D5E-A874-7F16D221FF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2FC-7024-4987-B954-AC34939A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669-EEEC-40B0-A088-3324F644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23D-4E16-4533-B44B-B281ECA6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202-3FE6-4A71-AC8D-0C384AF9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474C-1CE1-4311-BDD8-F098E5FD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B2B-3970-4847-9C98-1E8FFBB9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AB7-8A1A-4A27-8E98-8E045D97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A78-07A2-4F17-88DB-DCF94ED1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BC1-6A04-43AD-9D9F-4D522CB0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829-C6CF-4A08-85E3-3330F46B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EAE-24C7-4741-B1E9-34B39407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1BB-377F-4168-90C3-F6EC0202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EC29-0916-476F-983F-24A6087A671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5800" y="5719680"/>
            <a:ext cx="51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ext class: Anderson chapter 4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ufacturer places bar code or RFID tag on each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bar code or RFID tag to verify authenticity with manufacturer 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think like a crimi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bar code or RFID tag on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to verif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bar code or RFID tag and place on counterfeit item, sell it before the real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up fake Web site and 800 number that will verify anything.  Alter instructions to stores or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store can be compromised, even more attacks are possible.  Store can fail to check, falsify record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upply chain and transportation increasingly involved in anti-counterfeiting and other securit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are versions of replay, man in the middle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n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the process o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ing information (referred to a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intex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a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lgorith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often called a cipher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it unreadable to anyon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ept those possessing special knowledge, usually referred to 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ke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sult of the process is encrypted information, 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phertex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verse process, i.e. to make the encrypted information readable again, is referred to 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(i.e. to make it unencrypted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cesses are called protocols. They addres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 and authentication of 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s and authorization of ro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ing for resources used by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ing non-repudi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 and invalid actions taken by principals, including attackers, e.g.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in the middle attac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lay attacks, and other issues with freshness/stalen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mpering with network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ersonation, extortion, physical theft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r organization has significant assets, you must protect against sophisticated/tailored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 nota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-&gt; G : T, {T, N}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ken T used to enter garage G  (T and G ar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incipal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ken (e.g. like EZ Pass) transmits its serial number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 transmits its serial number T and a number used only once (nonce) N, encrypted with its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ce assures that message i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res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not a repl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ce can be sequential, random, or third party challen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ume nonce is sequential in this protoco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known by both T and 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server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ds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s up the corresponding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its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iphers {T, N}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the message includes T, 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N has not been seen before or has expected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(obtain)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nk like a criminal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Have a rogue reader before garage entrance that reads all EZ Pass units seen.  Copy the tag’s message to the reader onto another unit. Use that one to enter garag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Break the reader, cut its power, etc. Gate will be left 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Since each message has nonc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Z can go into garage with rogue reader and interrogate an EZ Pass unit repeatedly. Z knows part of the message is the sequential number and part is the fixed key. Z can infer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enough (N, N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pai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 (Easiest one!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can break into car and steal EZ Pass un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challenge and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hicle anti-theft system as exa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hicle key inserted into steering loc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has serial number, which is its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sends random number challenge to car key using short range radi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computes response by encrypting the random number challenge and also sends car key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decrypts, reads response and verifies it matches the challenge, and car key serial nbr corr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rcise: write out the protocol using the notation conventions from the last slid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_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 key) -&gt;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 C (car key): 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-&gt; E : {C, N}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 the car key must send its identif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must verify that C is valid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 can often be predicted somewhat because the engine controller is simple (e.g., black hat intercepts N and knows next N is based on i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cing black hat to find C makes break-in significantly hard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and engine management unit must be matched at time of manufacture; engine management unit must know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protocol is between a key and the engine. Since the user has the key, the key and engine are only in proximity when the user is too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key must be in the ignition for the protocol to start. This also makes the protocol better: contact rather than contactles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factors make man in the middle attacks harder, but not impossi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very common approach but has been broken repeated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 numbers often not very random and can be grabbed or guessed by thie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also vulnerable to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lt;-&gt; B &lt;-&gt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 can masquerade as C, passing A’s requests to C and sending C’s responses to A.  After (fraudulent) authentication, B gains ac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examp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ack hat has reader, masquerades as garage reader, interrogates card, gets its serial number T, (N,T)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lays it to real reader, gets response back, enters gar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 attack: jam radio frequency so car owner can’t lock car when lea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14T15:16:28Z</cp:lastPrinted>
  <dcterms:modified xsi:type="dcterms:W3CDTF">2013-11-07T23:22:11Z</dcterms:modified>
  <cp:revision>191</cp:revision>
  <dc:subject/>
  <dc:title>1.264 Lecture 5</dc:title>
</cp:coreProperties>
</file>