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15C4-E2F5-4990-BE71-69C166087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EB80-8A28-4FE3-8936-804972BDEA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56AC-1F16-4776-AB99-4609B6C3CD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1714-9E4F-4A7E-BA21-47638C428D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913D-DDE4-4D36-82A1-F30D201AD6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1477-570F-4B0A-BE34-E0E81641B2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5914-6C67-44A7-A653-53F8F4F328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6460-0494-416E-8410-ECB41A81E6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C04A-B310-4610-A969-CECC36319C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ACAF-6C52-427A-AB61-32F08E7AB5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8EDD-4E79-4B53-AA5F-C96A35A525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D8B1-0AEA-4662-9387-E1D3862BAA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6EEB-1F55-4DAC-94B9-5880E88053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1C01-EA6F-4844-BD7C-01D8B16D8E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DA1B-B81F-432F-88AB-0C54C66416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6286-A60B-461A-875D-CFBC8525B4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DAD0-0458-4FD4-84CB-841E0C0869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094B-962C-4AAA-8C4E-941ED8E010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416C-E0C3-409A-B7B0-DCEEE47195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D51E-7940-4ACD-B296-452A7BC472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6FD1-2871-480A-B3C9-8DAC445427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A0FA-1E92-4180-A19F-DADACDEA2D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1DC2-16BB-4B7F-BDAF-93E7DAF762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899-FE1B-4DD8-9146-E3C4699F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1CB-7E94-4259-85FA-2A2D8949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5D6-B444-41CE-9A21-5E4979CE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A27-C2F3-432B-84A3-960D2EFF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075-2AD9-4E6B-B2CB-7D054047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F54-B79D-4AC7-9191-7D3B1315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9E2-B805-4E72-9F6E-DDFCFA9A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FE1-357F-4B5A-8FD1-5D7F172A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14E-C73E-4651-B52C-DFD3E811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27A-109C-4B93-AF7F-6D1E9C1D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4BE-A193-4D50-8C9C-3A265227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9A7-3A38-4705-996E-A3173399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0128-8AC8-4F96-BC13-3D4A7B65C2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Oriented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ctronic Data Interchange (ED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93120" y="5719680"/>
            <a:ext cx="538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, 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Picture5.jpg"/>
          <p:cNvPicPr/>
          <p:nvPr/>
        </p:nvPicPr>
        <p:blipFill>
          <a:blip r:embed="rId1"/>
          <a:stretch/>
        </p:blipFill>
        <p:spPr>
          <a:xfrm>
            <a:off x="838080" y="1351080"/>
            <a:ext cx="7175520" cy="5430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s and existing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081800" y="914400"/>
            <a:ext cx="6776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d system built using Web services/SOA to existing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31240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9528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40384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79132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n SOA diagram for your homework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de how you would structure your catalog browsing and order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your Web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the Web services your customers would use to communicate with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igure 5.4 and/or Figure 5.15 on the previous slides as a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2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generation Web services: SOAP, WSDL, UDDI (WSDL regist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 functional requirements for businesses, but not the supporting requirements: security, reliability, availability, quality of service, choreograp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2.0: WS-* specif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ddressing: references to Web service end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tomic Trans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Business Process Execution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horeography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oordination and WS-Eve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Metadata Exchange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No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Reliable Mess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Security: end to end, not just point to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siness Process Execution Langu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 rot="21540000">
            <a:off x="1828800" y="1066320"/>
            <a:ext cx="5819760" cy="5464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4278600" y="6581880"/>
            <a:ext cx="462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 (Electronic Data Interchang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 is a mainframe-based standard for electronic exchange of information. Developed in 1980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is expensive, complex and has limited usage, but enough that new technologies must interoperate with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, large companies use EDI and require it of their smaller partners/vendors, who are not always eager to u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EDI standards: ANSI X12 and EDIFACT (U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s follow EDI standards in many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ocuments are called Transaction Sets (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o XML mapping established using DT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users of Internet ecommerce may skip EDI and use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s than 80,000 of 6-10 million US businesses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5,000 businesses world-wide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cost and complexity are large obstacle for medium size busin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commun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nary, not text (difficult to change or troubleshoo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ransaction sets are stat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esigned for expensive and scarce 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ch optimization of message siz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nded to replace letters, phone calls, fax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self-describing, cannot be validated, can’t be extended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through third party value-added networks (V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nies generally use file transfer to send file to V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N handles EDI exchange with trading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ared to once-a-day, batch exchanges of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(over a period of days): A purchas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40 document (Request for 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43 (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50 (Purchase Or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56 (Shipment Not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10 (Invo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20 (Pay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DI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Picture 3" descr="Picture6.jpg"/>
          <p:cNvPicPr/>
          <p:nvPr/>
        </p:nvPicPr>
        <p:blipFill>
          <a:blip r:embed="rId1"/>
          <a:stretch/>
        </p:blipFill>
        <p:spPr>
          <a:xfrm>
            <a:off x="1219320" y="2438280"/>
            <a:ext cx="6210360" cy="22924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5308920" y="502920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/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7" name="Picture 4" descr="EDI_ISAExample"/>
          <p:cNvPicPr/>
          <p:nvPr/>
        </p:nvPicPr>
        <p:blipFill>
          <a:blip r:embed="rId1"/>
          <a:stretch/>
        </p:blipFill>
        <p:spPr>
          <a:xfrm>
            <a:off x="2514600" y="152280"/>
            <a:ext cx="4059360" cy="6589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7012080" y="60199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Ex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ail information flow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Picture 3" descr="Picture7.jpg"/>
          <p:cNvPicPr/>
          <p:nvPr/>
        </p:nvPicPr>
        <p:blipFill>
          <a:blip r:embed="rId1"/>
          <a:stretch/>
        </p:blipFill>
        <p:spPr>
          <a:xfrm>
            <a:off x="457200" y="712800"/>
            <a:ext cx="84614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ributor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2" name="Picture 3" descr="Picture8.jpg"/>
          <p:cNvPicPr/>
          <p:nvPr/>
        </p:nvPicPr>
        <p:blipFill>
          <a:blip r:embed="rId1"/>
          <a:stretch/>
        </p:blipFill>
        <p:spPr>
          <a:xfrm>
            <a:off x="92160" y="692280"/>
            <a:ext cx="895968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286000" y="1108080"/>
            <a:ext cx="914400" cy="105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029200" y="1173240"/>
            <a:ext cx="91440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001000" y="1173240"/>
            <a:ext cx="914400" cy="101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3276720" y="185904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6019920" y="1703520"/>
            <a:ext cx="1981080" cy="46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5943600" y="205416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3200400" y="2163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276720" y="124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3200400" y="1554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54080" y="1173240"/>
            <a:ext cx="87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350520" y="95580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50520" y="13017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358080" y="1630440"/>
            <a:ext cx="17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359520" y="1935000"/>
            <a:ext cx="19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5920200" y="149688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quer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934960" y="180828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resultse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4"/>
          <p:cNvSpPr/>
          <p:nvPr/>
        </p:nvSpPr>
        <p:spPr>
          <a:xfrm>
            <a:off x="1066680" y="1143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1981080" y="14018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7"/>
          <p:cNvSpPr/>
          <p:nvPr/>
        </p:nvSpPr>
        <p:spPr>
          <a:xfrm>
            <a:off x="1981080" y="1554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2286000" y="2316240"/>
            <a:ext cx="9144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41"/>
          <p:cNvSpPr/>
          <p:nvPr/>
        </p:nvSpPr>
        <p:spPr>
          <a:xfrm>
            <a:off x="2987280" y="15228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lution- case stu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" name="Straight Arrow Connector 37"/>
          <p:cNvCxnSpPr>
            <a:stCxn id="70" idx="3"/>
          </p:cNvCxnSpPr>
          <p:nvPr/>
        </p:nvCxnSpPr>
        <p:spPr>
          <a:xfrm flipV="1">
            <a:off x="3200400" y="1828080"/>
            <a:ext cx="182952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Straight Arrow Connector 39"/>
          <p:cNvCxnSpPr/>
          <p:nvPr/>
        </p:nvCxnSpPr>
        <p:spPr>
          <a:xfrm flipH="1">
            <a:off x="3200040" y="2132640"/>
            <a:ext cx="18295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4" name="Text Box 19"/>
          <p:cNvSpPr/>
          <p:nvPr/>
        </p:nvSpPr>
        <p:spPr>
          <a:xfrm>
            <a:off x="3285360" y="2511360"/>
            <a:ext cx="21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HT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3307320" y="228276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34286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used by customer or manufacturer/distributor to alter XML being sent or recei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D and/or DTD used by customer or manufacturer/ distributor to validate XML being sent or rec’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package the HTTP, XML, XSD, request/response and URL used in “raw” XML transf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described in WSDL documents in registry.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ufacturer/distributor registers Web service in UDDI regi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 discovers Web service and invokes it on mfr/distrib Web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tool: CSS for XHTML, XSLT for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5409000" y="62064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ufacturer, distribu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1357200" y="620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3352680" y="2971800"/>
            <a:ext cx="14972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y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" name="Straight Arrow Connector 39"/>
          <p:cNvCxnSpPr>
            <a:stCxn id="52" idx="2"/>
            <a:endCxn id="79" idx="3"/>
          </p:cNvCxnSpPr>
          <p:nvPr/>
        </p:nvCxnSpPr>
        <p:spPr>
          <a:xfrm flipH="1">
            <a:off x="4849560" y="2391840"/>
            <a:ext cx="637200" cy="808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1" name="Text Box 19"/>
          <p:cNvSpPr/>
          <p:nvPr/>
        </p:nvSpPr>
        <p:spPr>
          <a:xfrm>
            <a:off x="4961520" y="29685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" name="Straight Arrow Connector 39"/>
          <p:cNvCxnSpPr>
            <a:stCxn id="51" idx="2"/>
          </p:cNvCxnSpPr>
          <p:nvPr/>
        </p:nvCxnSpPr>
        <p:spPr>
          <a:xfrm>
            <a:off x="2743200" y="2163600"/>
            <a:ext cx="596160" cy="103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3" name="Text Box 19"/>
          <p:cNvSpPr/>
          <p:nvPr/>
        </p:nvSpPr>
        <p:spPr>
          <a:xfrm>
            <a:off x="1837440" y="29862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79056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Straight Arrow Connector 39"/>
          <p:cNvCxnSpPr>
            <a:endCxn id="84" idx="0"/>
          </p:cNvCxnSpPr>
          <p:nvPr/>
        </p:nvCxnSpPr>
        <p:spPr>
          <a:xfrm flipH="1">
            <a:off x="1523160" y="2185560"/>
            <a:ext cx="76284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6" name="Text Box 19"/>
          <p:cNvSpPr/>
          <p:nvPr/>
        </p:nvSpPr>
        <p:spPr>
          <a:xfrm>
            <a:off x="554508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Straight Arrow Connector 39"/>
          <p:cNvCxnSpPr>
            <a:endCxn id="86" idx="0"/>
          </p:cNvCxnSpPr>
          <p:nvPr/>
        </p:nvCxnSpPr>
        <p:spPr>
          <a:xfrm>
            <a:off x="5930640" y="2392200"/>
            <a:ext cx="34776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nancial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" name="Picture 3" descr="Picture9.jpg"/>
          <p:cNvPicPr/>
          <p:nvPr/>
        </p:nvPicPr>
        <p:blipFill>
          <a:blip r:embed="rId1"/>
          <a:stretch/>
        </p:blipFill>
        <p:spPr>
          <a:xfrm>
            <a:off x="152280" y="785880"/>
            <a:ext cx="8839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ing/engineering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Picture 3" descr="Picture10.jpg"/>
          <p:cNvPicPr/>
          <p:nvPr/>
        </p:nvPicPr>
        <p:blipFill>
          <a:blip r:embed="rId1"/>
          <a:stretch/>
        </p:blipFill>
        <p:spPr>
          <a:xfrm>
            <a:off x="182520" y="706320"/>
            <a:ext cx="877896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er information flow: detai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Picture 3" descr="Picture11.jpg"/>
          <p:cNvPicPr/>
          <p:nvPr/>
        </p:nvPicPr>
        <p:blipFill>
          <a:blip r:embed="rId1"/>
          <a:stretch/>
        </p:blipFill>
        <p:spPr>
          <a:xfrm>
            <a:off x="158760" y="685800"/>
            <a:ext cx="88264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RP and EDI/XML standar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evious slides define the core of an ER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ve very substantial additions for human resources, planning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buy a full ERP or mix and match best of breed systems. Web service/SOA integration is comm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most every interface on the previous slides has a defined EDI or XML transaction set or message set, typically defined by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DCC (1968), EDX, CDIX, TALC, UCS/VICS, WINS, BVAI and oth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s of system integ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nies use multiple systems that must increasingly co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often are in different business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in different companies (vendors, channel partners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 on different platforms (operating system, hardwa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ten in different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ifferent communication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 transfer, EDI, XML, RPC, MQ, CORBA, COM, socket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databases, data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objectives, run at different times/peri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 is desired that allows integration in spite of different languages, protocols, hardwa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(SO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are basis for integration in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re of standard open technologies ar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, XML Schema (XSD), XSLT, SOAP, WSD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-, hardware-, software-, database-neu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gistry (database) is used to store WSDL for service 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, reliability, performance, transactions must be added to ‘primitive’ Web services to have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supports composition (assembling) of services, reusability of services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a service-focused busines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ML business process models can be implemented in S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loose coupling betwee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nchronous, or message-oriented (MOM)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 is sent from system A to system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se generally not guaranteed in any give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cess may not complete for a long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Shipment tracking service (suc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sync telecom service orders system (fail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of current SOA implemen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080160" y="634536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 is Web 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641280" y="64882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Thomas 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Content Placeholder 7" descr="Picture1.jpg"/>
          <p:cNvPicPr/>
          <p:nvPr/>
        </p:nvPicPr>
        <p:blipFill>
          <a:blip r:embed="rId1"/>
          <a:stretch/>
        </p:blipFill>
        <p:spPr>
          <a:xfrm>
            <a:off x="906480" y="1981080"/>
            <a:ext cx="733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architecture (between Web server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Content Placeholder 4" descr="Picture2.jpg"/>
          <p:cNvPicPr/>
          <p:nvPr/>
        </p:nvPicPr>
        <p:blipFill>
          <a:blip r:embed="rId1"/>
          <a:stretch/>
        </p:blipFill>
        <p:spPr>
          <a:xfrm>
            <a:off x="593640" y="1676520"/>
            <a:ext cx="7956720" cy="4724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use of WSD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Content Placeholder 4" descr="Picture3.jpg"/>
          <p:cNvPicPr/>
          <p:nvPr/>
        </p:nvPicPr>
        <p:blipFill>
          <a:blip r:embed="rId1"/>
          <a:stretch/>
        </p:blipFill>
        <p:spPr>
          <a:xfrm>
            <a:off x="1773360" y="1295280"/>
            <a:ext cx="559728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49120" y="2743200"/>
            <a:ext cx="13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oic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miss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04280" y="3970440"/>
            <a:ext cx="114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fill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7576560" y="25909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7581960" y="3962520"/>
            <a:ext cx="109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rch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service compos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Picture 5" descr="Picture4.jpg"/>
          <p:cNvPicPr/>
          <p:nvPr/>
        </p:nvPicPr>
        <p:blipFill>
          <a:blip r:embed="rId1"/>
          <a:stretch/>
        </p:blipFill>
        <p:spPr>
          <a:xfrm>
            <a:off x="1239840" y="1371600"/>
            <a:ext cx="6664320" cy="5303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59840" y="23623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8022600" y="220968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nd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8006760" y="397044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dg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07T15:38:59Z</cp:lastPrinted>
  <dcterms:modified xsi:type="dcterms:W3CDTF">2012-12-29T01:32:44Z</dcterms:modified>
  <cp:revision>196</cp:revision>
  <dc:subject/>
  <dc:title>1.264 Lecture 5</dc:title>
</cp:coreProperties>
</file>