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5B4E-A88D-4B0A-9302-5075B0399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6FA9-65B9-4F98-9F2B-415743C948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07E6F-9A3D-4E98-AB17-02C00555BD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AC723-12E9-4B4E-864F-66CEE8FD1F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79465-93CB-47D5-8002-A81D3288EC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20E2-5011-4A01-976E-F70DAB7C77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CA12-D94F-4AEA-9DC5-87ADD3A399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0588-E3B1-45B4-8B40-9FF19F208A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475C-2907-4EF4-95FB-31DEB15331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5170-02CA-4DC6-8625-BE47E689FC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268A-7C0E-443B-AEC8-BA5AB467B1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509A-FF85-4A24-9858-4406BF310D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4385-1CF0-4C8E-B38A-BD44147FFD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0D7B-C21A-4883-824A-06CD8FAA83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F9A8-F3C9-4160-BF67-BED374D412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F81-A9E0-41C5-925D-05BF5940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54F-62EF-4684-A86E-08859072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C0F-3730-4CBA-B7ED-834B46B5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013-C217-4CFE-9821-0D163346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A6A-ED0E-4C7A-AC10-DB673931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6FA-C499-416C-92B2-EF380241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4E0-9787-4692-9018-9DA65BAB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21B-5D04-4738-B426-40269B2B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F34-CA64-4203-BA2A-3BA9DA23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BF2-495D-465E-AB1B-01227D88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FD3-3A22-4C2B-836D-4C12680C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35B-4B48-43C4-9442-CBFB8EF6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C08E-E5AE-4D42-881A-6C0409CF46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1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database: Forms and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5720" y="5719680"/>
            <a:ext cx="60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 continue using Web site Lecture18 in this le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, chapters 11-12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1909800"/>
            <a:ext cx="60804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990720" y="1938240"/>
            <a:ext cx="71038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,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, cont: Display, edit, insert, dele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 at top of all the pages you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3696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ta transmittal across We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pages request a response from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Web browser sends an HTTP POST request 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is, e.g., localhost/Customers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aspx page is a program that dynamically generates the response xhtml (or XML)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your browse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ght click, select “View Source” on result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is an xhtml page; the logic on the .aspx page has been executed and the response returned to your brow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 that we are dragging and dropping controls, without doing any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will probably become the standard way to build business systems: it can be done by analysts, not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controls for supply chain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TP and XHT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only direct form of interaction between browser and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 an extremely perceptive extension of email, ftp protocols by Tim Berners-Lee to enable Web brow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-response paradig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made for each request/response p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e Web protocol, very s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definition language, based on t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level page description, not specific forma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used to enter and submit data to Web server, and to invoke dynamic Web pages on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and its pages are a communications channel between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first create communications between a user and a database by using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visible and intuitive, use the same princ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HTML pages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-database communications will be covered n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ML and HTTP, packaged in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readable, can be validated by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human review is still used because there isn’t complete trust among trading partners, engineering collaborator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machine communications create SQL database queries to fill in ‘XML forms’ and send them to the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XHTML forms transmit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allow a series of controls to be placed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s are text boxes, dropdowns, radio buttons, check box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rol has a name and a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 data is sent when user presses ‘Submit’ button. Op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POST command as string of for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1=Value1&amp;Name2=Value2&amp;…NameN=Valu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data is string sent after blank line after HTTP 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GET command, appended to end of GET string after a ?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/Index.html?Name1=Value1&amp;Name2=Value2&amp;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Web serv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followed by an XML 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XML later: it allow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alid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siness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’s ‘Submit’ button is associated with the URL of an applicatio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thod that will process the inpu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programs hav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ethod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function points) to extract the data from the POST or GET command and use it in th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unted Web pages and estimated function points ear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owser-server forms intera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2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1: Browser requests form without any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2: Server fetches and returns input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3: User fills out or edits input form and presses ‘submit’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4: Browser packages form into query string and sends to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5: Program synthesizes a response document and returns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912200" y="1141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282440" y="114048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19520" y="175068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T /App/Page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7543800" y="16747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7543800" y="2360520"/>
            <a:ext cx="838080" cy="38124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7543800" y="380844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7543800" y="46465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584600" y="3686400"/>
            <a:ext cx="21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 /App/Prog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me=Pat&amp;state=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 rot="10854000">
            <a:off x="5333760" y="2284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 rot="10854000">
            <a:off x="5333760" y="312228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 rot="10854000">
            <a:off x="5333760" y="4570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6553080" y="1903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6172200" y="2589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5562720" y="29703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7010280" y="40370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6172200" y="487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5410080" y="258912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5410080" y="27417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5410080" y="34275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410080" y="357984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5410080" y="4875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5410080" y="49514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5410080" y="50277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5486400" y="4646520"/>
            <a:ext cx="152280" cy="15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576720" y="5484960"/>
            <a:ext cx="850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lso support dynamic controls on an xhtml (aspx) page, such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NET’s SqlDataSource, GridView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.NET, all pages that return dynamic results are .aspx pages and are for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XHTML input for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action="inputForm.aspx" method="post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ast name: &lt;input type="text" name="l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First name: &lt;input type="text" name="f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nput type="submit" value="submit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057400" y="4572000"/>
            <a:ext cx="68896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Set SQL Server databas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login for SQL Server in SSMS if you haven’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Object Explorer, open Security-&gt; Lo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ght click, select ‘New logi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SQL Server authorization; enter name, pass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default database=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server roles, check user mapping for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Web site, database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use Lecture 18 site from la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 Default.aspx, Site.master. We’ll replac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Lecture18 zip file if you didn’t al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zip it in a temporary directory and then move its files to the Lecture18 Web site at C:\Inetpub\wwwroot\Lecture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T.master has common graphics for each page and a placeholder for active 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ages folder contains graphics used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.sitemap contains navigation structure of your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resh the solution explorer after moving files into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-&gt; Connect to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: .\SQLEXPRESS or SQLEX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name and password you set up ear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name: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at database in Database Explorer in VW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XHTML form (.aspx pag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-&gt;Toolbo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toolbox appear along left margin of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-&gt; New File-&gt; Web Form: Orders.a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master page and select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heck ‘code in separate f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Design view, from the Tool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SqlDataSource control into the ContentPlaceHo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he arrow at its top right, then on configure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connection you already cre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Orders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* to get all columns, ORDER BY C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query and fin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GridView control on top of the Sq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data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‘enable sorting’ and ‘enable pag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2 &lt;h2&gt; with “Orders”. Save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the browser symbol on the toolbar to test th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HTML Customers p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Web page to display the Customers table: Customers.aspx. Same steps as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MIT.master for its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sorting and p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Default.aspx with new XHTML that uses MIT.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e name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short text in the ContentPlaceHolder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links in MIT.master to point to your Orders, Customers pages, not De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test with the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at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e to Orders and Customers and then back to Defa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wser, “View Source” to see what XHTML has been gener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3T14:40:48Z</cp:lastPrinted>
  <dcterms:modified xsi:type="dcterms:W3CDTF">2013-10-20T20:55:59Z</dcterms:modified>
  <cp:revision>317</cp:revision>
  <dc:subject/>
  <dc:title>1.264 Lecture 5</dc:title>
</cp:coreProperties>
</file>