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580B83-64C7-4CF7-B203-74D714BB7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360C59-6F5A-4164-9F87-AE09928B81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71440" y="696960"/>
            <a:ext cx="4641840" cy="3481200"/>
          </a:xfrm>
          <a:prstGeom prst="rect">
            <a:avLst/>
          </a:prstGeom>
          <a:ln w="0">
            <a:noFill/>
          </a:ln>
        </p:spPr>
      </p:sp>
      <p:sp>
        <p:nvSpPr>
          <p:cNvPr id="86"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3798D54-FC61-4154-8594-09A8E1ED16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171440" y="696960"/>
            <a:ext cx="4641840" cy="3481200"/>
          </a:xfrm>
          <a:prstGeom prst="rect">
            <a:avLst/>
          </a:prstGeom>
          <a:ln w="0">
            <a:noFill/>
          </a:ln>
        </p:spPr>
      </p:sp>
      <p:sp>
        <p:nvSpPr>
          <p:cNvPr id="10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0968C72-88C1-460F-B93D-1BCCA77718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171440" y="696960"/>
            <a:ext cx="4641840" cy="3481200"/>
          </a:xfrm>
          <a:prstGeom prst="rect">
            <a:avLst/>
          </a:prstGeom>
          <a:ln w="0">
            <a:noFill/>
          </a:ln>
        </p:spPr>
      </p:sp>
      <p:sp>
        <p:nvSpPr>
          <p:cNvPr id="10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600F6B8-8FDF-4B0D-A834-138E0976DA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sldImg"/>
          </p:nvPr>
        </p:nvSpPr>
        <p:spPr>
          <a:xfrm>
            <a:off x="1171440" y="696960"/>
            <a:ext cx="4641840" cy="3481200"/>
          </a:xfrm>
          <a:prstGeom prst="rect">
            <a:avLst/>
          </a:prstGeom>
          <a:ln w="0">
            <a:noFill/>
          </a:ln>
        </p:spPr>
      </p:sp>
      <p:sp>
        <p:nvSpPr>
          <p:cNvPr id="11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71440" y="696960"/>
            <a:ext cx="4641840" cy="3481200"/>
          </a:xfrm>
          <a:prstGeom prst="rect">
            <a:avLst/>
          </a:prstGeom>
          <a:ln w="0">
            <a:noFill/>
          </a:ln>
        </p:spPr>
      </p:sp>
      <p:sp>
        <p:nvSpPr>
          <p:cNvPr id="11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5DB06A-10C7-47BF-AE68-EC11F7B844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1440" y="696960"/>
            <a:ext cx="4641840" cy="3481200"/>
          </a:xfrm>
          <a:prstGeom prst="rect">
            <a:avLst/>
          </a:prstGeom>
          <a:ln w="0">
            <a:noFill/>
          </a:ln>
        </p:spPr>
      </p:sp>
      <p:sp>
        <p:nvSpPr>
          <p:cNvPr id="11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25ACAF-51DF-40EB-B849-0C2F7EE802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272F3BD-12B6-4C23-BCBE-31FB22BBB7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71440" y="696960"/>
            <a:ext cx="4641840" cy="3481200"/>
          </a:xfrm>
          <a:prstGeom prst="rect">
            <a:avLst/>
          </a:prstGeom>
          <a:ln w="0">
            <a:noFill/>
          </a:ln>
        </p:spPr>
      </p:sp>
      <p:sp>
        <p:nvSpPr>
          <p:cNvPr id="11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F814379-2DCF-4B9A-A917-660280978A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71440" y="696960"/>
            <a:ext cx="4641840" cy="3481200"/>
          </a:xfrm>
          <a:prstGeom prst="rect">
            <a:avLst/>
          </a:prstGeom>
          <a:ln w="0">
            <a:noFill/>
          </a:ln>
        </p:spPr>
      </p:sp>
      <p:sp>
        <p:nvSpPr>
          <p:cNvPr id="8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1249F84-D352-4D66-8212-179E4AD412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71440" y="696960"/>
            <a:ext cx="4641840" cy="3481200"/>
          </a:xfrm>
          <a:prstGeom prst="rect">
            <a:avLst/>
          </a:prstGeom>
          <a:ln w="0">
            <a:noFill/>
          </a:ln>
        </p:spPr>
      </p:sp>
      <p:sp>
        <p:nvSpPr>
          <p:cNvPr id="9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CFC60A0-4EFB-49D2-99DA-00D0AA4D50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71440" y="696960"/>
            <a:ext cx="4641840" cy="3481200"/>
          </a:xfrm>
          <a:prstGeom prst="rect">
            <a:avLst/>
          </a:prstGeom>
          <a:ln w="0">
            <a:noFill/>
          </a:ln>
        </p:spPr>
      </p:sp>
      <p:sp>
        <p:nvSpPr>
          <p:cNvPr id="9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88F668-9063-4DD8-A826-9C651ECA36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71440" y="696960"/>
            <a:ext cx="4641840" cy="3481200"/>
          </a:xfrm>
          <a:prstGeom prst="rect">
            <a:avLst/>
          </a:prstGeom>
          <a:ln w="0">
            <a:noFill/>
          </a:ln>
        </p:spPr>
      </p:sp>
      <p:sp>
        <p:nvSpPr>
          <p:cNvPr id="98"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6B2F60-6519-4F48-BF4E-420AC5DA64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71440" y="696960"/>
            <a:ext cx="4641840" cy="3481200"/>
          </a:xfrm>
          <a:prstGeom prst="rect">
            <a:avLst/>
          </a:prstGeom>
          <a:ln w="0">
            <a:noFill/>
          </a:ln>
        </p:spPr>
      </p:sp>
      <p:sp>
        <p:nvSpPr>
          <p:cNvPr id="101"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FA9E0-79F9-4CBE-A2EC-E774C77B7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CA60E-B96D-4B96-A694-D912EAC1E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3318C-F9EB-4D71-B25C-439B606F6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27EAA-032B-49DF-9896-DF79B2127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5493A-F8EF-41B8-9A78-CF023D967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429D0-6F27-4684-BCDF-1975B8E14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264F5-C9F8-4C88-BDF1-5980C867F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EF977-BD4C-4F6A-A6E7-EE03F2CD6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EC4A3-3E1F-490B-8464-FE20AEFA8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2F88-73E2-4CF5-9C90-9B9CAD218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69F5F-6F76-436A-9594-1C0A286E4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5EDAF-91FC-4D46-B809-4A3D1B25E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08CA-DB9E-467F-9C03-1FD7BBA416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5</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Fiber optics</a:t>
            </a:r>
            <a:endParaRPr b="0" lang="en-US" sz="2400" spc="-1" strike="noStrike">
              <a:solidFill>
                <a:srgbClr val="ffffff"/>
              </a:solidFill>
              <a:latin typeface="Arial"/>
            </a:endParaRPr>
          </a:p>
        </p:txBody>
      </p:sp>
      <p:sp>
        <p:nvSpPr>
          <p:cNvPr id="50" name="Text Box 4"/>
          <p:cNvSpPr/>
          <p:nvPr/>
        </p:nvSpPr>
        <p:spPr>
          <a:xfrm>
            <a:off x="1836360" y="5719680"/>
            <a:ext cx="5229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18-21.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rse evaluation at </a:t>
            </a:r>
            <a:r>
              <a:rPr b="1" lang="en-US" sz="1400" spc="-1" strike="noStrike" u="sng">
                <a:solidFill>
                  <a:srgbClr val="ffffff"/>
                </a:solidFill>
                <a:uFillTx/>
                <a:latin typeface="Arial"/>
              </a:rPr>
              <a:t>http://web.mit.edu/subjectevalu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8 states * 10 channels * 6 Mbps= 2880 Mbps= 2.88 Gb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network can handle it, though it takes almost 10% of its capacit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 metro area, 1 Gbps is not enough. At least 3 1 GB networks are need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fills the entire capacity of these three networks.  The carrier providing them must dedicate three sets of core and edge routers, plus spa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bandwidth</a:t>
            </a:r>
            <a:endParaRPr b="0" lang="en-US" sz="2800" spc="-1" strike="noStrike">
              <a:solidFill>
                <a:srgbClr val="ffff00"/>
              </a:solidFill>
              <a:latin typeface="Arial"/>
            </a:endParaRPr>
          </a:p>
        </p:txBody>
      </p:sp>
      <p:sp>
        <p:nvSpPr>
          <p:cNvPr id="69" name="PlaceHolder 2"/>
          <p:cNvSpPr>
            <a:spLocks noGrp="1"/>
          </p:cNvSpPr>
          <p:nvPr>
            <p:ph/>
          </p:nvPr>
        </p:nvSpPr>
        <p:spPr>
          <a:xfrm>
            <a:off x="685800" y="1752480"/>
            <a:ext cx="8229600" cy="4114800"/>
          </a:xfrm>
          <a:prstGeom prst="rect">
            <a:avLst/>
          </a:prstGeom>
          <a:noFill/>
          <a:ln w="0">
            <a:noFill/>
          </a:ln>
        </p:spPr>
        <p:txBody>
          <a:bodyPr anchor="t">
            <a:normAutofit fontScale="89000"/>
          </a:bodyPr>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is faster than coax, copper or other electronics due to basic physics. Informally:</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be many bosons (e.g., photons) in one ‘place’ (quantum state) at the same time</a:t>
            </a:r>
            <a:endParaRPr b="0" lang="en-US" sz="18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only be one fermion (e.g., electron) in one ‘place’ (quantum state) at the same time</a:t>
            </a:r>
            <a:endParaRPr b="0" lang="en-US" sz="18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on’t change unless physics changes</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networks can haul 5,000,000 Mbps on a single wavelength on a single pair of fiber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nets are often 48 pairs</a:t>
            </a:r>
            <a:endParaRPr b="0" lang="en-US" sz="16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nse wavelength division multiplexing can put 40-160 wavelengths on a fiber pair</a:t>
            </a:r>
            <a:endParaRPr b="0" lang="en-US" sz="16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reless LANs (WiFi) can haul 30 Mbps (60% of 54 Mbp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G metro wireless can haul 20 Mbps for a user</a:t>
            </a:r>
            <a:endParaRPr b="0" lang="en-US" sz="16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ther telecom technologies serve to provide access to fiber optic links. Fiber drives location for some indust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alcatel_large"/>
          <p:cNvPicPr/>
          <p:nvPr/>
        </p:nvPicPr>
        <p:blipFill>
          <a:blip r:embed="rId1"/>
          <a:stretch/>
        </p:blipFill>
        <p:spPr>
          <a:xfrm>
            <a:off x="169920" y="304920"/>
            <a:ext cx="8821800" cy="6205320"/>
          </a:xfrm>
          <a:prstGeom prst="rect">
            <a:avLst/>
          </a:prstGeom>
          <a:ln w="0">
            <a:noFill/>
          </a:ln>
        </p:spPr>
      </p:pic>
      <p:sp>
        <p:nvSpPr>
          <p:cNvPr id="71" name="TextBox 1"/>
          <p:cNvSpPr/>
          <p:nvPr/>
        </p:nvSpPr>
        <p:spPr>
          <a:xfrm>
            <a:off x="4438800" y="6705720"/>
            <a:ext cx="323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go to submarinecablemap.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micorp_southam"/>
          <p:cNvPicPr/>
          <p:nvPr/>
        </p:nvPicPr>
        <p:blipFill>
          <a:blip r:embed="rId1"/>
          <a:stretch/>
        </p:blipFill>
        <p:spPr>
          <a:xfrm>
            <a:off x="2714760" y="461880"/>
            <a:ext cx="3714480" cy="593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876240" y="0"/>
            <a:ext cx="7201080" cy="68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930240" y="42840"/>
            <a:ext cx="7147080" cy="673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75960"/>
            <a:ext cx="853416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frican fiber links</a:t>
            </a:r>
            <a:endParaRPr b="0" lang="en-US" sz="2800" spc="-1" strike="noStrike">
              <a:solidFill>
                <a:srgbClr val="ffff00"/>
              </a:solidFill>
              <a:latin typeface="Arial"/>
            </a:endParaRPr>
          </a:p>
        </p:txBody>
      </p:sp>
      <p:pic>
        <p:nvPicPr>
          <p:cNvPr id="76" name="Picture 4" descr=""/>
          <p:cNvPicPr/>
          <p:nvPr/>
        </p:nvPicPr>
        <p:blipFill>
          <a:blip r:embed="rId1"/>
          <a:stretch/>
        </p:blipFill>
        <p:spPr>
          <a:xfrm>
            <a:off x="1327320" y="406440"/>
            <a:ext cx="6292800" cy="6446880"/>
          </a:xfrm>
          <a:prstGeom prst="rect">
            <a:avLst/>
          </a:prstGeom>
          <a:ln w="0">
            <a:noFill/>
          </a:ln>
        </p:spPr>
      </p:pic>
      <p:sp>
        <p:nvSpPr>
          <p:cNvPr id="77" name="TextBox 1"/>
          <p:cNvSpPr/>
          <p:nvPr/>
        </p:nvSpPr>
        <p:spPr>
          <a:xfrm>
            <a:off x="7707600" y="647712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fibre.n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79" name=""/>
          <p:cNvSpPr txBox="1"/>
          <p:nvPr/>
        </p:nvSpPr>
        <p:spPr>
          <a:xfrm>
            <a:off x="685440" y="1295280"/>
            <a:ext cx="8001000" cy="4114800"/>
          </a:xfrm>
          <a:prstGeom prst="rect">
            <a:avLst/>
          </a:prstGeom>
          <a:noFill/>
          <a:ln w="0">
            <a:noFill/>
          </a:ln>
        </p:spPr>
        <p:txBody>
          <a:bodyPr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plier is based in the interior of the Congo.</a:t>
            </a:r>
            <a:endParaRPr b="0" lang="en-US" sz="24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currently uses satellite communications at 128 kbps to access the Internet. It pays $500 per month per link. </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fiber optic link becomes available that provides up to 45 Mbps, in 1.5 Mbps increments. The first 1.5 Mbps chunk costs $100 per month, and each increment costs $50</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both sends and receives 100,000 XML messages per 8 hour day (orders, catalog, shipment, etc.). Half the messages are 10,000 bytes; the other half are 1 MB (with graphics)</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any satellite links did it need, at what cost?</a:t>
            </a:r>
            <a:endParaRPr b="0" lang="en-US" sz="2000" spc="-1" strike="noStrike">
              <a:solidFill>
                <a:srgbClr val="ffffff"/>
              </a:solidFill>
              <a:latin typeface="Arial"/>
            </a:endParaRPr>
          </a:p>
          <a:p>
            <a:pPr lvl="2" marL="914400" indent="-182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it needed more than 2, satellite was infeasible. It would have needed custom software to extract minimal data to/from XML messages handled by proxy elsewhere</a:t>
            </a:r>
            <a:endParaRPr b="0" lang="en-US" sz="18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uch fiber bandwidth does it need, at what cost?</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f it only sent and received 1,000 XML msgs per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81" name=""/>
          <p:cNvSpPr txBox="1"/>
          <p:nvPr/>
        </p:nvSpPr>
        <p:spPr>
          <a:xfrm>
            <a:off x="685800" y="1600200"/>
            <a:ext cx="7772400" cy="4114800"/>
          </a:xfrm>
          <a:prstGeom prst="rect">
            <a:avLst/>
          </a:prstGeom>
          <a:noFill/>
          <a:ln w="0">
            <a:noFill/>
          </a:ln>
        </p:spPr>
        <p:txBody>
          <a:bodyPr anchor="t">
            <a:normAutofit fontScale="85000"/>
          </a:bodyPr>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width up= bandwidth down, as is common in business communication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s/day= 50,000*8*(10,000 + 1,000,000)= 404 Gb</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e= 8*3600= 28,800 seconds</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404 Gb/ 28800 sec=~ 14 Mb/sec</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infeasible with satellite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1,000 versus 100,000 messages, the bandwidth is 140 kb/sec. It would need 2 satellite links, at $1,000/mo.</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fiber this requires 15 Mb/sec at $100 + 9*$50, or $550 per month</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proxy server or custom software are required, and the supplier is fully integrated via Internet/Web</a:t>
            </a:r>
            <a:br>
              <a:rPr sz="2000"/>
            </a:b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chnology comparison</a:t>
            </a:r>
            <a:endParaRPr b="0" lang="en-US" sz="2800" spc="-1" strike="noStrike">
              <a:solidFill>
                <a:srgbClr val="ffff00"/>
              </a:solidFill>
              <a:latin typeface="Arial"/>
            </a:endParaRPr>
          </a:p>
        </p:txBody>
      </p:sp>
      <p:sp>
        <p:nvSpPr>
          <p:cNvPr id="83" name="PlaceHolder 2"/>
          <p:cNvSpPr>
            <a:spLocks noGrp="1"/>
          </p:cNvSpPr>
          <p:nvPr>
            <p:ph/>
          </p:nvPr>
        </p:nvSpPr>
        <p:spPr>
          <a:xfrm>
            <a:off x="685800" y="1066680"/>
            <a:ext cx="8153280" cy="4114800"/>
          </a:xfrm>
          <a:prstGeom prst="rect">
            <a:avLst/>
          </a:prstGeom>
          <a:noFill/>
          <a:ln w="0">
            <a:noFill/>
          </a:ln>
        </p:spPr>
        <p:txBody>
          <a:bodyPr anchor="t">
            <a:normAutofit fontScale="72000"/>
          </a:bodyPr>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optics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5 Tbps (5000 Gbps) per fiber pair</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fiber pairs unlimited</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4</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400 km between repeaters, global</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per (existing telephone plant) (Access to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1.5 Mbps (T1) for long distances w/repeaters</a:t>
            </a:r>
            <a:endParaRPr b="0" lang="en-US" sz="18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5 Mbps (DSL) up to 5 kilometers</a:t>
            </a:r>
            <a:endParaRPr b="0" lang="en-US" sz="16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100 Mbps (LAN) up to 100 meters</a:t>
            </a:r>
            <a:endParaRPr b="0" lang="en-US" sz="16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0</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2 km between repeaters, on land</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V (coax) somewhat better than copper</a:t>
            </a:r>
            <a:endParaRPr b="0" lang="en-US" sz="20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dio (microwave, mobile phone, wireless data) (WAN Access)</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50 Mbps (microwave, WLAN), ~20 Mbps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links limited by spectrum width (~5 G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wireless bandwidth ~ 10-15 Gbps at any point (2-3 bits/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6</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100m (WLAN) to 20 km (microwave,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ellite has very high distance but same bandwidth, error rates</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rates are critical; we’ll return to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1</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shorthand for 1.5 Mbps connec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the standard over copp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used as a shorthand for this data rate over any mediu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formally, we use DS-1 to designate 1.5 Mbps over fiber (or coax or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0 to designate 64 kbps (a voice cal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3 to designate a T-3, which is 28 T-1s, and which fits within the fiber standard OC-1 (51 Mb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exercise</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 </a:t>
            </a:r>
            <a:r>
              <a:rPr b="1" lang="en-US" sz="1800" spc="-1" strike="noStrike" baseline="30000">
                <a:solidFill>
                  <a:srgbClr val="ffffff"/>
                </a:solidFill>
                <a:latin typeface="Arial"/>
              </a:rPr>
              <a:t>(DB/10) </a:t>
            </a:r>
            <a:r>
              <a:rPr b="1" lang="en-US" sz="1800" spc="-1" strike="noStrike">
                <a:solidFill>
                  <a:srgbClr val="ffffff"/>
                </a:solidFill>
                <a:latin typeface="Arial"/>
              </a:rPr>
              <a:t>= 10</a:t>
            </a:r>
            <a:r>
              <a:rPr b="1" lang="en-US" sz="1800" spc="-1" strike="noStrike" baseline="30000">
                <a:solidFill>
                  <a:srgbClr val="ffffff"/>
                </a:solidFill>
                <a:latin typeface="Arial"/>
              </a:rPr>
              <a:t>2 </a:t>
            </a:r>
            <a:r>
              <a:rPr b="1" lang="en-US" sz="1800" spc="-1" strike="noStrike">
                <a:solidFill>
                  <a:srgbClr val="ffffff"/>
                </a:solidFill>
                <a:latin typeface="Arial"/>
              </a:rPr>
              <a:t>= 100</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are common on land, longer undersea</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solution</a:t>
            </a:r>
            <a:endParaRPr b="0" lang="en-US" sz="2800" spc="-1" strike="noStrike">
              <a:solidFill>
                <a:srgbClr val="ffff00"/>
              </a:solidFill>
              <a:latin typeface="Arial"/>
            </a:endParaRPr>
          </a:p>
        </p:txBody>
      </p:sp>
      <p:sp>
        <p:nvSpPr>
          <p:cNvPr id="56" name="PlaceHolder 2"/>
          <p:cNvSpPr>
            <a:spLocks noGrp="1"/>
          </p:cNvSpPr>
          <p:nvPr>
            <p:ph/>
          </p:nvPr>
        </p:nvSpPr>
        <p:spPr>
          <a:xfrm>
            <a:off x="685800" y="1523880"/>
            <a:ext cx="7772400" cy="4114800"/>
          </a:xfrm>
          <a:prstGeom prst="rect">
            <a:avLst/>
          </a:prstGeom>
          <a:noFill/>
          <a:ln w="0">
            <a:noFill/>
          </a:ln>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a:t>
            </a:r>
            <a:r>
              <a:rPr b="1" lang="en-US" sz="1800" spc="-1" strike="noStrike" baseline="30000">
                <a:solidFill>
                  <a:srgbClr val="ffffff"/>
                </a:solidFill>
                <a:latin typeface="Arial"/>
              </a:rPr>
              <a:t>(DB/10)</a:t>
            </a:r>
            <a:r>
              <a:rPr b="1" lang="en-US" sz="1800" spc="-1" strike="noStrike">
                <a:solidFill>
                  <a:srgbClr val="ffffff"/>
                </a:solidFill>
                <a:latin typeface="Arial"/>
              </a:rPr>
              <a:t>= 10</a:t>
            </a:r>
            <a:r>
              <a:rPr b="1" lang="en-US" sz="1800" spc="-1" strike="noStrike" baseline="30000">
                <a:solidFill>
                  <a:srgbClr val="ffffff"/>
                </a:solidFill>
                <a:latin typeface="Arial"/>
              </a:rPr>
              <a:t>2</a:t>
            </a:r>
            <a:r>
              <a:rPr b="1" lang="en-US" sz="1800" spc="-1" strike="noStrike">
                <a:solidFill>
                  <a:srgbClr val="ffffff"/>
                </a:solidFill>
                <a:latin typeface="Arial"/>
              </a:rPr>
              <a:t>= 100</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common on land, longer undersea</a:t>
            </a:r>
            <a:endParaRPr b="0" lang="en-US" sz="2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solution:</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 200 km * 0.15 db/km= 30 db</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s= 10</a:t>
            </a:r>
            <a:r>
              <a:rPr b="1" lang="en-US" sz="2000" spc="-1" strike="noStrike" baseline="30000">
                <a:solidFill>
                  <a:srgbClr val="ffffff"/>
                </a:solidFill>
                <a:latin typeface="Arial"/>
              </a:rPr>
              <a:t>DB/10</a:t>
            </a:r>
            <a:r>
              <a:rPr b="1" lang="en-US" sz="2000" spc="-1" strike="noStrike">
                <a:solidFill>
                  <a:srgbClr val="ffffff"/>
                </a:solidFill>
                <a:latin typeface="Arial"/>
              </a:rPr>
              <a:t>= 10</a:t>
            </a:r>
            <a:r>
              <a:rPr b="1" lang="en-US" sz="2000" spc="-1" strike="noStrike" baseline="30000">
                <a:solidFill>
                  <a:srgbClr val="ffffff"/>
                </a:solidFill>
                <a:latin typeface="Arial"/>
              </a:rPr>
              <a:t>3</a:t>
            </a:r>
            <a:r>
              <a:rPr b="1" lang="en-US" sz="2000" spc="-1" strike="noStrike">
                <a:solidFill>
                  <a:srgbClr val="ffffff"/>
                </a:solidFill>
                <a:latin typeface="Arial"/>
              </a:rPr>
              <a:t>= 1000</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l= 1/loss= 0.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AN: Optical networking hardware</a:t>
            </a:r>
            <a:endParaRPr b="0" lang="en-US" sz="2800" spc="-1" strike="noStrike">
              <a:solidFill>
                <a:srgbClr val="ffff00"/>
              </a:solidFill>
              <a:latin typeface="Arial"/>
            </a:endParaRPr>
          </a:p>
        </p:txBody>
      </p:sp>
      <p:pic>
        <p:nvPicPr>
          <p:cNvPr id="58" name="Picture 4" descr="Lec21a"/>
          <p:cNvPicPr/>
          <p:nvPr/>
        </p:nvPicPr>
        <p:blipFill>
          <a:blip r:embed="rId1"/>
          <a:stretch/>
        </p:blipFill>
        <p:spPr>
          <a:xfrm>
            <a:off x="1295280" y="1447920"/>
            <a:ext cx="6599520" cy="51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terminals and muxes</a:t>
            </a:r>
            <a:endParaRPr b="0" lang="en-US" sz="2800" spc="-1" strike="noStrike">
              <a:solidFill>
                <a:srgbClr val="ffff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er optic terminals: convert optical/electrica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ow and expensive compared to all-optical switch/rout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cal amplifiers now exist: fast, low pow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plifiers available for 5 Tbps (5000 Gbps) signal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elength division multiplexing (WD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can send light of different colors in the same fiber to increase capacit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rse WDM has 16 wavelength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se WDM has 40 wavelengths, going to 80-16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operations</a:t>
            </a:r>
            <a:endParaRPr b="0" lang="en-US" sz="2800" spc="-1" strike="noStrike">
              <a:solidFill>
                <a:srgbClr val="ffff00"/>
              </a:solidFill>
              <a:latin typeface="Arial"/>
            </a:endParaRPr>
          </a:p>
        </p:txBody>
      </p:sp>
      <p:sp>
        <p:nvSpPr>
          <p:cNvPr id="62" name="PlaceHolder 2"/>
          <p:cNvSpPr>
            <a:spLocks noGrp="1"/>
          </p:cNvSpPr>
          <p:nvPr>
            <p:ph/>
          </p:nvPr>
        </p:nvSpPr>
        <p:spPr>
          <a:xfrm>
            <a:off x="685800" y="1143000"/>
            <a:ext cx="8229600" cy="4114800"/>
          </a:xfrm>
          <a:prstGeom prst="rect">
            <a:avLst/>
          </a:prstGeom>
          <a:noFill/>
          <a:ln w="0">
            <a:noFill/>
          </a:ln>
        </p:spPr>
        <p:txBody>
          <a:bodyPr anchor="t">
            <a:normAutofit fontScale="79000"/>
          </a:bodyPr>
          <a:p>
            <a:pPr marL="270720" indent="-270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fiber operation in telecom trunk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C-48 to OC-768 (2.5 to 40 Gb/sec) on a single pair of fib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e receive and transmit paths (no circuits)</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0 to 512,000 64kb/sec circuits for voice or data</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ut 1,000 to 16,000 video channels at 1.5 Mbp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wide systems in U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ly 48-fiber bundles over 25,000 mile network</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ral competing networks exist</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outing a problem for reliability (fiber cut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ghts of way limited; multiple carriers hit by same outage</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rk fiber becoming available for us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 metro area, can run corporate Ethernet to multiple sit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to the premises (home, small business, …) available</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izon not building out home FIOS; business fiber continu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used within corporate buildings and campuse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tle fiber to desktop yet, but likely to c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327320" y="228600"/>
            <a:ext cx="6521400" cy="647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65" name=""/>
          <p:cNvSpPr txBox="1"/>
          <p:nvPr/>
        </p:nvSpPr>
        <p:spPr>
          <a:xfrm>
            <a:off x="685800" y="137160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se 10 real time video channels (training, videoconference, customer contact…) are active in each of the 48 lower states in the US and made available to your company’s facilities in each state (You may be FedEx, UP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 time channel is 6 Mbp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e location in each state uses every channel, so all 48 * 10 channels must be sent to each state</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locations are in metro area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bandwidth into each state is required?</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one 40 Gbps network handle it?</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not, how many networks must be used?</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the data gets to a metro area, can a 1 Gbps Carrier Ethernet handle all the traff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2-04T12:40:10Z</cp:lastPrinted>
  <dcterms:modified xsi:type="dcterms:W3CDTF">2013-12-04T12:58:30Z</dcterms:modified>
  <cp:revision>252</cp:revision>
  <dc:subject/>
  <dc:title>1.264 Lecture 5</dc:title>
</cp:coreProperties>
</file>