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922CF-8128-4DD0-99CE-D053497A6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74944-137F-46B8-B3B6-0C0B3D134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EE12A-5965-4097-90B6-65FF3B57E7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BC561-FF9C-49EE-B8FA-4E34C4CE21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FBA6E-501A-4F1F-9A61-3483EF4792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AFE35-0CB2-43D9-BEAC-B241FC99F9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23009-8BA9-4F63-A8CF-4DA919EF6A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C4ED8-6B26-4E9B-A421-F7E19B27D1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DAE5A-B040-410A-A82A-C6E8F31E6D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AD3F2-7BEE-44CF-BE51-B0ED2F0DD5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F97F1-318D-4111-ADA9-E247B1F80D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6C25C-D5F4-45EF-9858-EE14D059E0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2C6-524C-4A34-9340-4D3CFDF9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33F-0081-4853-8449-3F6659F1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895-F77A-4395-9A58-91BACA07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369-9011-404A-88B3-C864DE1D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307-400D-4A6D-BDB7-4DD8E9CF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3E2-32E6-4B48-96A1-9A6330FF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34E-E0DF-4F2C-A6CF-904AA3B6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2BC-C255-4620-8C88-02D4CBC0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B8F-A491-4F5B-B95D-785F86D3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67A-9EE3-4F51-A51D-3F3E1BEE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5EA-6808-42C5-A69E-8B91E779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DB2-8CB1-4DA5-B5C2-DEE3BED5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0504-C8AE-4D09-93BA-E364385B11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Controls, Forms,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86080" y="5719680"/>
            <a:ext cx="45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Visual Studio. Open the Lecture18/19 Web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989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489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Inserting data, other fea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 Improve the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edit the page links in the nav bar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n Offices.aspx page if you hav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(h2) text on the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 website.map to include new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the ‘breadcrumb’ navigation uses as it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ext to Default.aspx, your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‘Contact us’ link; it should send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s to the pages you created (&lt;title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some SQL by hand in the SQLDataSource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INSERT statement in CustomerOrders.aspx to confirm it does not have a primary key field, because the customer number is IDENTITY (auto-gener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351600" y="6324480"/>
            <a:ext cx="58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oolkit.ashr.transportation.org/NCHRP.aspx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save pages in VSW after mak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on tab means the page has not been sa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refresh the browser after you make a change to a Web page and are tes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owser caches the page, and doesn’t know that you’ve changed it unless you force a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up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your Web site to another Web site on your computer period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(and JEE 6, LAMP) framework allows Web site construction from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onnect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, form, data, detail views for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ion controls (we didn’t cover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ion controls (SiteMapPath,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and permiss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AX: Asynchronoux Javascript and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the sorting in GridView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: machine-to-machine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this in the nex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s for Web-database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, IIS, SQL Server, ASP.NET and C# or othe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 Enterprise Edition (JEE 6 or, older, J2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S, Glassfish/Apache, any database, 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 open sour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, Apache, MySQL,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n essentially inter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based on cost-speed-performance-security-stability tradeoff: Java -&gt; .NET -&gt; 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similar features, though details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P.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pages are .aspx pages. They have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spx page, which is considered a Web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Microsoft ASP.NET server code that converts the controls on the .aspx page into XHTML that is sent back to a client (browser or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HTML code is generated dynamically based on database queries and programs that run on the server, such as optimization or design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s are compiled to check for errors, just like software program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bug-&gt; Build Web Si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heck for err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-driven model, as we’ve seen in our exerc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Inserted, DataUpdated, DataDelete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Web site Lecture18 in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169760" y="65818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 to next slide to fin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delete: part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Edit data between two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3 SqlDataSources, 2 GridViews and Form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and edit orders for a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is to display and edit line items in an order in homework 7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create CustomerOrders p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1: select * from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1 on data source 1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2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customer is selected value from Gridview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2 on data source 2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3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order is selected value from Gridview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: Enable insert, delete,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FormView1 on data sourc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GridView2.DataBind() to events as i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&lt;h2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6291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Passing a WHERE parameter across p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get parameters for WHERE clause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(e.g., Grid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String (e.g., localhost/Order?ID=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variables, prof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2.aspx with two hyper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1: SalesReps3.aspx?offic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2: SalesReps3.aspx?office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3.aspx. On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DataSource1 WHERE RepOffice= QueryString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GridView on SQLDataSourc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SalesReps2 in browser and click on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se this to display your catalog in homework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3T23:49:51Z</dcterms:modified>
  <cp:revision>217</cp:revision>
  <dc:subject/>
  <dc:title>1.264 Lecture 5</dc:title>
</cp:coreProperties>
</file>