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F69C5-53DE-4FF8-B55F-6C95E16E59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1E1A0-B3F8-4514-883E-EF785132DD9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43234-C0D6-4EA2-AC2D-8F85FE9A3FA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33FCD-9DA0-4B56-8699-20C211CD18B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38DEA-DE23-4510-8A64-467B676A4EC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6C436-04CC-4887-8573-4FE59F04F38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C7003-C52D-4974-B2EA-2D9C0D77553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8A5F7-FDFD-4785-9588-03E064AB8AE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A95BE-230D-4483-9F86-74712610F2C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CFE5F-B743-4F6E-AF9F-9FEA7455B17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FCC62-FB71-4CBA-8220-D541E50D666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B0B5D-9581-4480-8655-9C670D3A7A9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7892D-DDC2-4FF8-9CB2-B94046E3E9D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123A4-476C-4893-8764-A15C12AAD0C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0FB50-9CE7-4E8D-A555-42EA1F1A7C8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BE9A-B596-4134-A5E6-87EE4B22C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B954-9A2B-4083-BD3C-50ABC0EE2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F1CD-E425-4142-BDA8-3AAB9E0BB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364B-4277-4454-B83A-F0B9A35B9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B00A-4ECB-41D7-886F-FF36AE1FC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A2EE-2926-4A44-9448-DA352CBC9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6EDF-8A52-4465-ABB6-C53A0DD93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AA34-FC0D-4546-8F0B-AD5C23BAD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FF21-DEF6-4024-95BB-1D3A22CCB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919B-0A94-451D-B67F-E6495440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3EFF-8E31-463E-88BD-BC5C5FE6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DEB8-3872-4A68-97CE-CEE49037A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2592E-562C-484E-92C9-774AC48C8157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264 Lecture 27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urity protoco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mmetric cryptograph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214720" y="5719680"/>
            <a:ext cx="512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Anderson chapter 10.  Exercise due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after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ryptography issu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yptography protects against eavesdropping, tampering (cut and past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t does not protect against replay (need freshness for that) or necessarily against man-in-the-middle attac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hing protects against denial of service attacks except shutting down the attack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anaging network risks: Cryptograph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laintext: original messag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iphertext: encrypted messag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yptographic algorithm: function converting plaintext to ciphert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ey: number used by algorithm to encrypt and/or decryp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t the same as a database key (primary or foreign!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cryption proces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mmetric: sender and receiver use same secret ke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ymmetric: sender and receiver use different, but related keys. Receiver key public, used by all senders to that receiv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914400" y="4495680"/>
            <a:ext cx="114300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lain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3962520" y="4495680"/>
            <a:ext cx="114300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ipher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6934320" y="4495680"/>
            <a:ext cx="114300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lain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7"/>
          <p:cNvSpPr/>
          <p:nvPr/>
        </p:nvSpPr>
        <p:spPr>
          <a:xfrm>
            <a:off x="2057400" y="4876920"/>
            <a:ext cx="190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Line 8"/>
          <p:cNvSpPr/>
          <p:nvPr/>
        </p:nvSpPr>
        <p:spPr>
          <a:xfrm>
            <a:off x="5105520" y="487692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Oval 9"/>
          <p:cNvSpPr/>
          <p:nvPr/>
        </p:nvSpPr>
        <p:spPr>
          <a:xfrm>
            <a:off x="2438280" y="4419720"/>
            <a:ext cx="914400" cy="9144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nd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ke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Oval 10"/>
          <p:cNvSpPr/>
          <p:nvPr/>
        </p:nvSpPr>
        <p:spPr>
          <a:xfrm>
            <a:off x="5638680" y="4419720"/>
            <a:ext cx="914400" cy="9144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cei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ke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ymmetric encryp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mmetric algorithms use same key to encrypt and decryp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 (Data Encryption Standard): 56 bit ke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lits data into pieces, reshuffl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acked in 1998 after 30 years of use: faster hardwar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ple DES: encrypt/decrypt/encrypt with 3 DES keys: 168 bit effective key leng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ckward compatible with DES in banking, etc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C2, RC4, RC5: 40-2048 bit keys, in common use by encrypting Web servers and brows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ES: Current US government standard, uses Rijndael algorith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s with symmetric key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st be exchanged in advance, via secure metho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-way communication not supported effectively: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many users must communicate with server, compromising any one can compromise al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(very simplified from real thing!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intext: 73628495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y: 3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1= 3, k2= 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nder algorithm: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ift digits by k1 to the left. (Wrap around as needed.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btract k2 from each digi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phertext: 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ceiver algorithm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k2 to each digi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ift digits by k1 to the right. (Wrap around as needed.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intext:  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Real symmetric algorithms chop, shift, add/subtract in complex patterns to remove statistical patterns in data—see text: S-boxe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intext: 73628495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y: 3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1= 3, k2= 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nder algorithm: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ift digits by k1 to the lef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btract k2 from each digi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phertext:  28495736 -&gt;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17384625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ceiver algorithm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k2 to each digi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ift digits by k1 to the righ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intext:  62517384 -&gt;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73628495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Real symmetric algorithms chop, shift, add/subtract in complex patterns to remove statistical patterns in data---see text: S-boxe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 Box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5" name="Picture 8" descr="SBox"/>
          <p:cNvPicPr/>
          <p:nvPr/>
        </p:nvPicPr>
        <p:blipFill>
          <a:blip r:embed="rId1"/>
          <a:stretch/>
        </p:blipFill>
        <p:spPr>
          <a:xfrm>
            <a:off x="990720" y="1828800"/>
            <a:ext cx="7311960" cy="4114800"/>
          </a:xfrm>
          <a:prstGeom prst="rect">
            <a:avLst/>
          </a:prstGeom>
          <a:ln w="0">
            <a:noFill/>
          </a:ln>
        </p:spPr>
      </p:pic>
      <p:sp>
        <p:nvSpPr>
          <p:cNvPr id="86" name="TextBox 1"/>
          <p:cNvSpPr/>
          <p:nvPr/>
        </p:nvSpPr>
        <p:spPr>
          <a:xfrm>
            <a:off x="7834320" y="6553080"/>
            <a:ext cx="12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om Anders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Box 1"/>
          <p:cNvSpPr/>
          <p:nvPr/>
        </p:nvSpPr>
        <p:spPr>
          <a:xfrm>
            <a:off x="7394040" y="6172200"/>
            <a:ext cx="182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so see AES Wiki ent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: hotel key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is the protocol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attacks are possibl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p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t and pas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is the effect of encryption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112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: hotel key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tocol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 (card) -&gt; D (door) : N1, N2,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N3, N4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ere N1 is the current cod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2, </a:t>
            </a:r>
            <a:r>
              <a:rPr b="1" i="1" lang="en-US" sz="1800" spc="-1" strike="noStrike">
                <a:solidFill>
                  <a:srgbClr val="00ffff"/>
                </a:solidFill>
                <a:latin typeface="Arial"/>
              </a:rPr>
              <a:t>N3 and N4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re previous codes </a:t>
            </a:r>
            <a:r>
              <a:rPr b="1" i="1" lang="en-US" sz="1800" spc="-1" strike="noStrike">
                <a:solidFill>
                  <a:srgbClr val="00ffff"/>
                </a:solidFill>
                <a:latin typeface="Arial"/>
              </a:rPr>
              <a:t>(if they can fit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d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 is the number of days the room is reserve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N2 is correct, N1 is written to door unit, door ope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N1 is correct and days&lt;T, door ope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t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pied card can be used. No protection in this protocol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tacker can change value of T. Works unless another guest is given the room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ay is possible. Attacker can intercept card-door interaction, write it to new card, and enter room.  Mag stripe readers emit radiatio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cryption doesn’t prevent copy or replay; it makes cut and paste hard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expected problem: unused rooms/key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asic key management exampl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ice and Bob wish to communic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 is a trusted third party (shares keys with Alice and Bob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key is a secret number that both encrypts and decryp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ice calls Sam, asks for key to talk with Bo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 -&gt; S: A, B 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(A and B are principals or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names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m sends Alice pair of certificates (ciphertex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ach contains copy of ke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rst is encrypted so only Alice can read it: K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A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cond is encrypted so only Bob can read it: K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B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 -&gt; A: {A, B, K</a:t>
            </a:r>
            <a:r>
              <a:rPr b="1" lang="en-US" sz="1800" spc="-1" strike="noStrike" baseline="-25000">
                <a:solidFill>
                  <a:srgbClr val="ffff00"/>
                </a:solidFill>
                <a:latin typeface="Arial"/>
              </a:rPr>
              <a:t>AB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, T}</a:t>
            </a:r>
            <a:r>
              <a:rPr b="1" lang="en-US" sz="1800" spc="-1" strike="noStrike" baseline="-25000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1800" spc="-1" strike="noStrike" baseline="-50000">
                <a:solidFill>
                  <a:srgbClr val="ffff00"/>
                </a:solidFill>
                <a:latin typeface="Arial"/>
              </a:rPr>
              <a:t>AS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, {A, B, K</a:t>
            </a:r>
            <a:r>
              <a:rPr b="1" lang="en-US" sz="1800" spc="-1" strike="noStrike" baseline="-25000">
                <a:solidFill>
                  <a:srgbClr val="ffff00"/>
                </a:solidFill>
                <a:latin typeface="Arial"/>
              </a:rPr>
              <a:t>AB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, T}</a:t>
            </a:r>
            <a:r>
              <a:rPr b="1" lang="en-US" sz="1800" spc="-1" strike="noStrike" baseline="-25000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1800" spc="-1" strike="noStrike" baseline="-50000">
                <a:solidFill>
                  <a:srgbClr val="ffff00"/>
                </a:solidFill>
                <a:latin typeface="Arial"/>
              </a:rPr>
              <a:t>BS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(T is time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ice retrieves her key, sends Bob the second certific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e then sends him a message that he can decryp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 -&gt; B: {A, B, K</a:t>
            </a:r>
            <a:r>
              <a:rPr b="1" lang="en-US" sz="1800" spc="-1" strike="noStrike" baseline="-25000">
                <a:solidFill>
                  <a:srgbClr val="ffff00"/>
                </a:solidFill>
                <a:latin typeface="Arial"/>
              </a:rPr>
              <a:t>AB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, T}</a:t>
            </a:r>
            <a:r>
              <a:rPr b="1" lang="en-US" sz="1800" spc="-1" strike="noStrike" baseline="-25000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1800" spc="-1" strike="noStrike" baseline="-50000">
                <a:solidFill>
                  <a:srgbClr val="ffff00"/>
                </a:solidFill>
                <a:latin typeface="Arial"/>
              </a:rPr>
              <a:t>BS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, {M} </a:t>
            </a:r>
            <a:r>
              <a:rPr b="1" lang="en-US" sz="1800" spc="-1" strike="noStrike" baseline="-25000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1800" spc="-1" strike="noStrike" baseline="-50000">
                <a:solidFill>
                  <a:srgbClr val="ffff00"/>
                </a:solidFill>
                <a:latin typeface="Arial"/>
              </a:rPr>
              <a:t>AB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Can be replayed; no freshnes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Kerbero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trusted server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hentication server to which users log 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cket-granting server, which gives access to files and programs (authorization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s is more scalable than a single serv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ice asks ticket server for access to Bo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 -&gt; S: A, 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er sends ticket, encrypted with A’s password (key), granting access to B at time T for lifetime L of ticke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 -&gt; A: {T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S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, L, K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AB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, B, {T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S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, L, K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AB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, A}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2000" spc="-1" strike="noStrike" baseline="-50000">
                <a:solidFill>
                  <a:srgbClr val="ffff00"/>
                </a:solidFill>
                <a:latin typeface="Arial"/>
              </a:rPr>
              <a:t>BS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}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2000" spc="-1" strike="noStrike" baseline="-50000">
                <a:solidFill>
                  <a:srgbClr val="ffff00"/>
                </a:solidFill>
                <a:latin typeface="Arial"/>
              </a:rPr>
              <a:t>A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ice sends timestamp to resource B, which confirms it’s al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 -&gt; B: {T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S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, L, K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AB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, A}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2000" spc="-1" strike="noStrike" baseline="-50000">
                <a:solidFill>
                  <a:srgbClr val="ffff00"/>
                </a:solidFill>
                <a:latin typeface="Arial"/>
              </a:rPr>
              <a:t>BS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, {A, T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}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2000" spc="-1" strike="noStrike" baseline="-50000">
                <a:solidFill>
                  <a:srgbClr val="ffff00"/>
                </a:solidFill>
                <a:latin typeface="Arial"/>
              </a:rPr>
              <a:t>A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ob sends timestamp incremented by on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 -&gt; A: {T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+1}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2000" spc="-1" strike="noStrike" baseline="-50000">
                <a:solidFill>
                  <a:srgbClr val="ffff00"/>
                </a:solidFill>
                <a:latin typeface="Arial"/>
              </a:rPr>
              <a:t>A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Kerberos, con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avoids replay attacks and compromised keys by using timestamp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romised keys are a problem only for their lifetime L, typically measured in hou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clocks must now be synchroniz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rberos is used for Microsoft security and many single login sys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y don’t we use Kerberos for Internet and Web security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rberos requires a central key server trusted by all parti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it is broken, all communications are expose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it is down, no one can initiate secure connec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o would such a trusted party be on the Internet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t would be expensiv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 use a different protocol, SSL (next lecture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asswords as a protocol: issu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simplest security protocol is a username and pass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ften the most vulnerable piece of secur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ften used to protect other security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r browser SSL certificate is protected by a passwor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erberos/Microsoft security key is your passwor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issu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cial enginee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rs disclose passwords to third part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296000" indent="-1850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y accident, on purpose, or through deceptio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296000" indent="-1850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ception common in health care, insurance, banking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liable password ent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rs mistype passwords; password rese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membering pass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rs write down passwords, choose weak password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asswords: solution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re are 26 letters, 10 digits: 36 possible characters at each location in a pass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s should be about 5 bits (2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32 combination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cause of patterns, it’s usually only 1.5-2 bits/cha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8 character password is less than a 16 bit ke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asily broken (see the book for many attack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lu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ssphras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rdware password generat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ometrics (which can also be attacked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ryptographic primitiv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mmetric key encryp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d to encrypt sess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ymmetric (public) key encryp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d to distribute symmetric key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sis for digital signat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ream or block ciph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d to apply key to messag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ssage digests (hashe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d to verify message integr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gital signatures (certificate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d to verify identity of principa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vered as part of Secure Sockets Layer (SS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1999-11-08T15:50:20Z</cp:lastPrinted>
  <dcterms:modified xsi:type="dcterms:W3CDTF">2013-11-12T17:45:46Z</dcterms:modified>
  <cp:revision>195</cp:revision>
  <dc:subject/>
  <dc:title>1.264 Lecture 5</dc:title>
</cp:coreProperties>
</file>