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0F2E-7D8D-4E65-90CA-5473279A6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1116-6A84-407C-8DF3-04A506B0140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6E9C-1CEA-42B6-92AE-C11F7A385E1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9AB2-D71F-4270-99CD-E3BD960A9F2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1486-5A02-464A-B799-4682E1CE6E0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0F64-2786-428D-A9D3-EEB6F61DF73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FF21-5BDE-4673-B57B-8084398625A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9C2E-DC5F-4384-872D-99DB39FC116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3913-194F-49B4-ADBB-FC35FCA89A0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3744-72D0-43EC-B076-C7DFB8C2F90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7377-9E48-46CD-8B78-ABF8B91A0AA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39E-0D01-494D-9891-098C8A97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69C-D63B-41DE-820D-3D0AF79D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FCB-725E-4781-8F0C-90B5B779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DEE-4B82-4741-9F7C-89980C1F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6B8-F5DB-4637-AD24-65CE4AFF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CA2-D555-45EF-8E2F-C081CED7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43E-6D43-4F29-A1DB-6675C433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200-9C0F-4FC2-B7D0-172F5073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B89-6B76-43C0-874A-48E2C30A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645-36A0-4090-B824-A312954F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106-2718-4582-A59F-875B8C26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AEB-3AF0-45B5-8085-28121C1A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0183-0C41-429E-8C63-2DA22F1570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7240" y="5719680"/>
            <a:ext cx="50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-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B development tools (UML, Visual Studio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following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aS: infrastructu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aS: platform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aS: softwa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atabase development tools (UML…) softw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, or perhaps I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 these two Web sites to get prices: (What kind of clou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ws.amazon.com/ec2/  Estimat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-dem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rv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 to “EC2 Pricing”, “AWS Simple Monthly Calculator”, U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/Web SQL Svr, 50% utilization, m3.xlarge (15 GB memory, 13 CPU units)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 demand and then re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: 1000GB standard, 100 iops, 100GB-mo snap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: 1,000GB/month inter-region in and 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d: Medium util, 1 yr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windowsazure.com. Pricing, “Calculator”, “Shared” tab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y as you g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2 month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site, 150GB database (less than Amazon), 1000GB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nce at developers.google.com/appengin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o “Quotas and pricing”-&gt;”Pric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ogle costs require more work to estimat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about comparing to running your own data cent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, software, space, security, staff to manage,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azon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demand: $488/month (was $831/month last year, for l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d: $1100 + $286/month (was $1837 + $590/mon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: $355 PAYG, $275 12 mos (was $943/month la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g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the sam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 growing exponenti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, flexibility, higher quality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vendors offer cloud storage, computing, office applications, enterprise applications (CRM, SCM, ERP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 as a service (SaaS) is cloud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are infrastructure and platform as a service (IaaS, Pa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computing is heavily based on Service Oriented Architectures (SO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Web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HTTP and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exchange data between databases using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and public clouds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prise servers and applications will 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architecture provides a cost estimate for the software and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required early in a project. Use first spiral to develo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imate staff and software costs from lecture 3,4 approa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examp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trip plan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real tim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far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vehicl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transit dispatch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a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ll examples, architecture generates budg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: from function points, person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: from TPC and cloud computing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: from bandwidth and technolog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ics (database server as an exa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oughpu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/O operations/second, data transfer rate/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yste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throughput is low, more servers used than really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seek time (seconds), response time (seco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latency is high, users have slow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ilizatio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centage of data transfer rate, disk capacity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avg utilization &gt; 60%, your systems will crawl on busy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erage server utilization  ~15-20% in traditional data ce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data transf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Mbit/sec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2.5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0.0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,000 bits/sec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0.007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arable units when assess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bits (b)=  1 byte 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B may be 1,000,000 B or 1,024,000 B.  GB, TB discrepancies high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Database server cost, perform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on to www.tpc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C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n “system” for top performing choice and open executive summary as pdf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ick the 2</a:t>
            </a:r>
            <a:r>
              <a:rPr b="1" lang="en-US" sz="20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one: IB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configuration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Note the 50% disc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hardware cost? How many us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How many are there? Total stora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What does the software cost? (This one is unusua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 How much mem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nore the client hardware, which is just for th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H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100GB results, same items as TPC-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ts are queries per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with TPC-C performance, which is transactions per minute. Why the differe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C: IBM x36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 ~$30,000.  Users: ~1,000,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 ~$26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~$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115, holding 40,0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8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768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 ~0.1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H: Lenovo ThinkServer RD630 (100 GB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~$13,500.   Users: a few (5-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(not specified, but most of 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8, holding 2,4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16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64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response times: 0.3-12.7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: 420,000 QpH= 7,000 Q/min(H) vs 1,300,000 q/min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 transaction is about 1,000,000 times the cost of a C trans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s are faster/cheaper n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00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tpmC, $58/tpmC, 6,000 users, 5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13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600,000 tpmC, $0.47/tpmC, 1,000,000 users, 0.1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,200,000 total transactions/minute in bench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800,000 total transactions/minute actual 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% utilization max for goo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system is less highly tuned than benchmark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 for future 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x of transactions changing: more status/inquiry with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erformance 20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,000,000 tpmC, $1/tpmC,  24,00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 vs traditional op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zon, Microsoft Azure, Google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application/database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databas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your application and place it in the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by the 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fo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C-E-H systems that you purchase and host in-house or in a host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 servers from Dell, etc. that you configure for latency, throughput, utilization, etc. using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types of clou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 own operating system, database, ap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flexible, mo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Rack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tfo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operat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provides OS, database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mazon, Microsoft, Goo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no app of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the third party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salesforc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st flexible, lea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ation exampl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 On-Demand APT (package carrier T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Network (logis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1-21T16:29:48Z</cp:lastPrinted>
  <dcterms:modified xsi:type="dcterms:W3CDTF">2013-11-23T01:07:07Z</dcterms:modified>
  <cp:revision>254</cp:revision>
  <dc:subject/>
  <dc:title>1.264 Lecture 5</dc:title>
</cp:coreProperties>
</file>