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068A19-5605-4D7E-9FCE-FCBC7EDE0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6B36B4-DFC0-4420-8BCC-40E2898F19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9BBBEA-54E0-4462-9C5D-1347BC7492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277BCC-083A-4617-9073-A99A37F9CB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07B2B3-2494-40DE-A27A-92AB5BF1A3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D27F52-47B5-46A3-894C-C31DA8F486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5D5889-7842-47AC-8BBB-05B015C577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90A68A-E8A6-4A1D-B48A-0FD1CA969E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882198-044A-4176-A420-AD9E17A073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9DD9274-BF0F-4A9D-B05E-C36F0AB08C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779F09-51B4-4F4E-BD95-1FD49AA075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24FEC68-AB86-4D1D-AFE1-DE4643D1A9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E2C8128-4325-4DD0-9B77-129B65FD75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927C09C-88F4-466F-A60D-B5D281E621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20B4615-585C-4CBA-AAEE-A44C44EA2B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12C-F94B-4485-A20D-DFC94DF5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F18-D3C8-4E5D-81CE-AC76BED6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5E9-19C7-4C1E-A3BE-1724DAEF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B69-0010-4182-80C4-598B8710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DA9-153C-4915-8F25-20FE7909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111-7672-4323-A826-B4A3DE14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7FB-4B46-49AE-B89E-3E9C3907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665-64D7-4CE2-BD39-E93DA86C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38F-3749-484A-A936-AC864A79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0E8-3078-44AB-B401-059EAA4B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807-001C-4695-B9A7-EE36169D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0FE-B1A7-4823-89CD-FCAAF40D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53B8-B790-4208-9996-A4C884CFC6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000" y="5719680"/>
            <a:ext cx="51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8, 3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peed, privately owned, short rang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EE 802.3 or Ethernet is nearly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s of 10Mbps to 1Gbps (1000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ange: building or campus (1-5 km typical leng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rmission for right of way on str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s can extend Ethernet over metro area using Carrier Ethernet, a metro-area network (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echnology is not Ethernet per se, but it looks like and is managed like Ethernet from the customer’s point of 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MANs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er, bridge/hub, router, gateway at customer si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855720" y="1044720"/>
            <a:ext cx="72216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ernet (initial wired, current wireless vers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6440" y="762120"/>
            <a:ext cx="8931240" cy="533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017360" y="6172200"/>
            <a:ext cx="71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 is carrier sense multiple access/collision detection (CSMA/CD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liest wired Ethernet used this protocol also, now supersed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582440" y="4495680"/>
            <a:ext cx="45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frame= 512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der sends 512 bits and has heard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ming signal, it can continue w/o interru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s farthest station collides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 signal, which must reach sender befor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more than 512 bi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- Maximum traditional LAN leng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’ll see the 1 Gb/sec LAN isn’t feasible with traditional LAN. 1 Gb/sec LAN 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 duplex (two wires per station, one to send, one to rece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es only, no repeaters or bridges, and no colli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ber optics (often), with 500 to 5000 meter seg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ance limited by signal fading, etc. (more on this la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2 meters= 0.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60960" indent="-305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.2 meters= 0.0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hough collisions are avoided in full duplex, switched LANs, signal attenuation and other losses are li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s typically are 5 km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N: Telecom carrier network facili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area networks (W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ver same physical facilities as voice (next lec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loop, local switch, tandem switch, tr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n permanent circuits of much higher bandwidth than for a single voice call;  no sw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based on ISO 7-layer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ly HTTP (Web services), tcp, and 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ed by routers and data sw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ssions are highly variable compared to voice,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brow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 ATM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 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 inter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ddresses are Ethernet addresses or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data network speeds 56 kbps to 40 Gbps per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voice network secure without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925760" y="632448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ces from metro-area (MAN) or local-area (LAN) n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lob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provided by multiple carriers (one is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cy WANs are present but usually not good choices for new data comm nee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(point to point) circuits: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up circuits: low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relay: still viable, being superseded by IP (cost, r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drop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for bank ATMs, point-of-sale (POS) terminals, lottery termin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that banks, stores have general Internet access, encrypted ATM and POS traffic often goes over the general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et networks (X.25): expensive, limited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AT (satellite): widely dispersed, low bandwidth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-based networks becoming do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over a business-only, carrier-provided infrastructure separate from the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rier/public network: major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56560" cy="538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01040" y="2228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81960" y="4164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80440" y="41911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 or IP-PB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821400" y="1676520"/>
            <a:ext cx="22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per, becoming fiber or wirel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ervice are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Picture 4" descr="Lec20a"/>
          <p:cNvPicPr/>
          <p:nvPr/>
        </p:nvPicPr>
        <p:blipFill>
          <a:blip r:embed="rId1"/>
          <a:stretch/>
        </p:blipFill>
        <p:spPr>
          <a:xfrm>
            <a:off x="1130400" y="1076400"/>
            <a:ext cx="6946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ET uses time division multiplexing (T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locks in the network sync to a master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er/demultiplexers start/end a SONET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drop multiplexers insert/extract subset of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 signal is 51.84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ice call is 64 kbits/sec, or 0.064 Mbit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capacity= 51.84/0.064, or 810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 it has about 15% overhead (framing, con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tually carries 672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7 to 28 video channels (1.5 Mbps to 6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92 signal is 192 times higher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SONET rate (though fiber can go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types of network; name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highest on the pol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are point to point conne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re shared (point to many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vo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have competitive (open) ac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ber optic (SONET) ring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20760" y="701640"/>
            <a:ext cx="617076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49800" y="64771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a large airline with a single server site that handles all your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ransaction is 10,000 bytes (80,000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ndle 2,000 transactio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can you locate your servers on the network in the previous sl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central office A, in a telco colocation 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SONET hub on one of the OC-12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multiplexer on one of the OC-3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 the server bandwidth and compare to the network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-3 is 3 * OC-1; OC-12 is 12 * OC-1; OC-48 is 48 * O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80,000 * 2,000= 160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 is 51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3 is 155 Mbits/sec. Not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2 is 622 Mbits/sec.  Clearl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be at central office A or at a SONET hub on one of the OC-12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he full OC-12 or OC-48 capacity. Carriers will sell you an appropriate 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r: layer 1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: layer 2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: layer 3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: layer 7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SAT: Very Small Aperture Terminal (satell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.25: Packet service, pre-Internet (replaced by 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X: Private branch exchange, to switch voice calls in an office (now mostly IP-PB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: Local access and transport area, defines service areas for regulatory, pric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is highest on pole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high voltage/cur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se are point-to-point connec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shared (point-to-many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c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da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vo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ave competitive acc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unbundled to CL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not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distribution monopoly, generation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copper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coax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cop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ystems manage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roject/system must estimate the amount of data to be exchanged with partners/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RFID example from last l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appropriate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d: higher bandwidth/reliability (~gigabits/sec/circu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: mobile, flexible, low bandwidth (~megabits/sec/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between build, lease,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right of way,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interconnect different network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(LAN), metro area (MAN), wide area (W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networks will be standards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carriers, bandwidths, service levels, costs, etc., similar to physic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likely to need a lot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bandwid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is a key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data carried over analog (continuous) circuits at the physi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 were designed for data: telecom circuits for voice, broadcast and CATV for radio and 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been repurposed to carry data while retaining their historic physical structure ($$$ existing capi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 bandwidth measured in Hz: cycle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communications can carry 2 bits/Hz in 5 GHz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d communications have vastly mo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 for digital bandwidth based on signal/nois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factors determine the building blocks you’l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hannels have more bandwidth than 1 use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users are multiplexed (shared) on comm chan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net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travels over different network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 at your site: cheap, high bandwidth (1 Gbps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from your site to local switch/cable heade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per: ~5 Mbps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V: ~20 Mbps, 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: essentially unlimited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or CATV network: fiber, high bandwidth, che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ous optical network (SONET)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availability (99.999%),  recover from many fa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ircuits are permanent, unlike voi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cket flow over the permanent network is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IP networks handle most voice, data an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routers exist at carrier switch facilities for IP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networks are generally not encrypted; rely on physical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ata communication protoc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7480" cy="522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TCP/I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Lec20d"/>
          <p:cNvPicPr/>
          <p:nvPr/>
        </p:nvPicPr>
        <p:blipFill>
          <a:blip r:embed="rId1"/>
          <a:stretch/>
        </p:blipFill>
        <p:spPr>
          <a:xfrm>
            <a:off x="2057400" y="1066680"/>
            <a:ext cx="5064120" cy="561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s and WA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Picture 4" descr="Lec20b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3198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453760" y="59436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/or MAN if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4494960" y="4952520"/>
            <a:ext cx="113400" cy="99144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1-27T15:06:41Z</dcterms:modified>
  <cp:revision>248</cp:revision>
  <dc:subject/>
  <dc:title>1.264 Lecture 5</dc:title>
</cp:coreProperties>
</file>