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wmf" ContentType="image/x-wmf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F7A80-C860-404E-8B12-C55227E51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A21E6-AA5C-4A06-BDCD-D9B47DB61D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B91E4-0282-4935-9B3F-165E130791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B90D3-1501-4B1C-A201-D7EFD9F961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FDB01-B806-4D59-B353-7F6A5FE73C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6A827-EA5F-498B-A615-252CDC584A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85765-1928-44E1-8C4E-48874EF628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41BD9-A6BA-457B-AE77-5724BB2E99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4F4DE-544F-437B-BBDA-0C7C77E73D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4FBCA-8B5A-4D52-86AE-D6563F837B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8AFB4-4D66-41D2-82C6-5492932C7F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63E3C-C5CF-48AF-AEBD-2F312F5850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E44F2-7ABE-4BA0-ADF0-BC5BD43490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249A5-A371-423B-9099-2A8B370057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F16B9-E1EB-460B-8670-5DD3283159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7CFCD-7077-4CFC-9117-74FE9F0B25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E195B-AED9-41AD-96D2-BE5BE4F0E7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1DB2D-5894-43A0-B220-76A620CBF5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7E911-764B-4C65-88C3-94C631D364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0AD2-AABF-4398-BAF5-EA055C35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D8F8-9F98-4029-86E0-238E4863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3549-C7F0-4E85-A6E9-9D110B99C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4B2E-4281-478E-9447-67F750FC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753A-C0BE-43CD-8F21-1A8EB80E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2693-B70D-478E-B1FA-2D1DB792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1773-5660-4973-8F56-B4C17CD7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9D01-074F-4A0D-813B-13E4F343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7DEC-0530-48AE-B1E3-4DE1E7BE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2161-93E0-4CBF-A59E-453B60A2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6DF2-B6FA-43D1-9B3A-04A91097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1AA6-00D7-4E92-BD2F-8D105D85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185F-282F-401E-A269-D9CD48F1D72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6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Wireless netwo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898000" y="5719680"/>
            <a:ext cx="31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lease do subject evaluation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LAN service se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440" y="1295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room or area is a typical BSS (basic service set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ESS is a set of rooms and areas in the L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ions capabilities may b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onary on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move within a single BSS (ad hoc or infrastructur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move between BSS, but communication may not be continuous during the mo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048280" cy="253224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7662240" y="6473880"/>
            <a:ext cx="14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rom Forouza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LAN iss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Fi (802.11b, 802.11g, 802.11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pensive, pervasive, reliable, easy to man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t spots common, but unscalable for metro area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ge ~100 meters: ok within buildings, campu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ndwidth: 11 Mbps (b), 54 Mbps (g), 100 Mbps (n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bandwidth often half of nominal due to interference, fading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lf of traffic at many companies is non-work (music or video streaming, Web access, personal email, …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ity is difficult, because signals propagate beyond the building or si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P easy to break; use WPA and WPA2 instea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n’t use WPS (WiFi protected setup); it has a security flaw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nicipal network plans problematic (30+ points/sq m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 warehouse, what type of LAN would you set up (ad hoc, BSS, ESS), and wh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there are forklifts and other vehicles oper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there are pick/pack stations, conveyors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uld you try to lay out the network to minimize handoffs, or is that not important? Why or why no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802.11b, how would you stream video from 25 forklifts/vehicles in the warehous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your video is 1.5 Mb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 up an ESS, to allow handoffs and to connect all devices/stations to the WAN if need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y out the network to cover aisles/areas that minimize handoff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unications is not continuous in wireless LAN handoff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deo: 802.11b is 11 Mbps, or 5.5 Mbps practical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need 25 * 1.5 Mbps, or 37.5 Mbps, or at least 8 BSS, which is one AP for every 3 vehicles in an ar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cause of interference, fading, etc. you may need m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you use 802.11n, at 100 Mbps nominal or 50 Mbps actual, you may find 2 APs sufficient (1 for redundanc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bile telepho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bile telephony is dominant. Alternatives ar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cialized mobile radio (SMR), used primarily for local dispat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out 3,000 licensed SMR providers in US (taxi, trucking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xtel bought many SMR providers and created national network: radio, cell phone, data, messag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xtel uses variation on GSM cellular technolog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vate mobile radio service (police, fire, railroads…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ared frequencies among all us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se stations, repeaters; squelch or tone contro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unking radio (multiple channels) used by larger organiz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5920" indent="-1965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ne control channel to which all units liste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5920" indent="-1965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alk channel then designat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options use spectrum less well than cell phon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ing pushed to narrowband; other measu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bile (cellular) telepho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ell phone is a rad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fore cell phones, there was mobile radio, with one tower per metro area and about 25 chann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 phones had to be high powered but for little us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ular telephony divides a metro area into cells for much, much more capac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32 channels in standard US cellular radio spectrum band; European GSM varies but simil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 to 5 more bands have been allocated via auction in 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one can operate on any of these 1,000+ chann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ular switches are called Mobile Telephone Switching Offices, or MTS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s same as standard telco voice switch, plus handoff across cells, for voice cal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ndles TCP/IP data for data and vide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SM (2G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M is European standard, adopted worldwide and increasingly in 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’s a 2G (second generation) standard, being superseded by 3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switches voice calls, like landlines, and is being replaced by voice over I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voice band is 13 kbps (versus 64 kbps fib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ndard GSM has 124 chann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channel is 270.8 kbps carried in 200 kH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 users per chann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SM can (re)use 1/3 of channels in each cell, due to good error corre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pacity =~ 124 channels * 8 users/channel * 1/3 reuse= 329 calls (users) per ce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M data is carried over GPRS (General Packet Radio Services), often considered 2.5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G wirel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ldwide standard, though frequency bands vary by reg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aming phones must use different frequency ban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are a few common frequency bands worldw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igned for many service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-time gam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 download and uplo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and ema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G data protocols are WCDMA, HSP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broad use, continue to evolve new fe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ll be supported for many years until full 4G us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rates of 500 kbps to 1 Mbps typ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G wirel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G is also called LTE (long term evolution) and release 8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dard is 3GPP (in GSM lineag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backward compatible with 3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irely IP based; no voice switched traffi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s spectrum flexibility for worldwide op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ndoffs at 350 km/hr to support high speed ra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ny individual phone supports limited spectrum, since RF and filter design are expensive/inflexi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rates of up to 20 Mbps typ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rcity of bandwidth resulting in throttling of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MA (50% of US) 1x-EV-DO Rev C is very similar to LTE, and is converging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dard is 3GPP2 (in CDMA lineag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equency reuse in cellular telepho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938160" y="1460520"/>
            <a:ext cx="7139160" cy="45594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"/>
          <p:cNvSpPr/>
          <p:nvPr/>
        </p:nvSpPr>
        <p:spPr>
          <a:xfrm>
            <a:off x="1094040" y="601992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a 7-cell pattern; 9-cell is also comm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 a system for an intercity rail passenger train to provide Internet access to its passengers and operating crew. Address each challeng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tro areas: frequent physical obstructions, such as underpasses, tall building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ne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ural areas: gaps in cellular coverage, trees, hills obstruct line of sigh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applications: what to do when a user wants to download a 200MB 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 changes: train goes through many networks of varying quality at varying spee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ption in passenger cars: metal car bodies affect sign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llular serv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" name="Picture 4" descr="Lec21e"/>
          <p:cNvPicPr/>
          <p:nvPr/>
        </p:nvPicPr>
        <p:blipFill>
          <a:blip r:embed="rId1"/>
          <a:stretch/>
        </p:blipFill>
        <p:spPr>
          <a:xfrm>
            <a:off x="1836720" y="990720"/>
            <a:ext cx="5630760" cy="54864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1006200" y="6521400"/>
            <a:ext cx="758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mple honeycomb pattern rarely holds. Actual cell coverage highly variable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ume LTE can provide 20 Mbps to areas with industry/warehousing t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a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location serv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100 locations in the ce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each has 10 Web users (1 Mbps), 1 Web/data server (5 Mbps), limited videoconference/video (4 Mbp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tal bandwidth for each location is 10 Mbps (1+5+4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are LTE to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SL (1.5-13 Mbps, asymmetri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TV (30-300 Mbps, asymmetric bu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har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ver all 100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1 over copper (1.5 Mbps, symmetri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gabit Ethernet MAN (1 Gbps, symmetri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LTE solve the ‘last mile’ problem sometime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average user needs 10 Mb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SL (1.5-13 Mbps) may meet it in some cases, but usually not. DSL usually 3-6 Mb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TV has 30-300 Mbps, but 100 users *10 Mbps= 1 Gbps. CATV would need many segments; not effectiv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1 over copper (1.5 Mbps) is not enoug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gabit Ethernet MAN is plenty, of cour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TE (20 Mbps) is suffici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andwidth is available. In lower and medium density areas, it should be o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cell can handle 100+ channels at 20 Mbp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TE appears to solve the ‘last mile’ problem for residences (low/medium density) and low/medium density small business, but not major bandwidth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ong-range wireless: satellite communic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01684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tellites (wireless WAN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 satellites are on the equator and orbit every 24 hours, appearing station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 satellites 120 degrees apart can cover the Ear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O orbits are between the two Van Allen belts of charged particles that would destroy a satelli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O satellites orbit every 6 to 8 hou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PS is a set of 24 MEO satellites in 6 orbits, designed so 4 satellites are always visible from any point on Ear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PS triangulates among the 4 satellites to determine position in 3D; it computes intersection of sphe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O satellites are in polar orbi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orbit every 90 to 120 minu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are managed like a set of cells on Ear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ttle” LEOs: text messaging (e.g. truckin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” LEOs: Iridium, Globalstar (e.g. sat phon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adband LEOs: network video, other broadba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O satellite applic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marsat for marine and remote applic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0,000 ships, vehicles, aircraf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32 kbps Internet access data rate, 11 satelli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se service ended in 2005 for commercial vess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y small aperture terminal (VSAT): 56 kbps- 4 Mbps for remote area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areas can get 18 Mbps down, 4 Mbps u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data rates 512 kbps or less down, 128 kbps u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ellite Internet providers’ for rural consum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SAT operators for Africa, other areas without fi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V programming distribu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ct broadcast TV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O, LEO satellite applic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adband LEO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desic, similar to fiber, fail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g LEO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ridium not successful but still oper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o expensive to compete with terrestrial cell servi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6 satellites, each with 48 spot beams: ~2000 cel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ice, fax, paging at 2.4 to 4.8 kbp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obalstar has 48 satellites, similar service as Iridiu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ttle LEO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ucking and rail information systems, pag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O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obal positioning system (GP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tellite lin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0" name="Picture 4" descr="Lec21d"/>
          <p:cNvPicPr/>
          <p:nvPr/>
        </p:nvPicPr>
        <p:blipFill>
          <a:blip r:embed="rId1"/>
          <a:stretch/>
        </p:blipFill>
        <p:spPr>
          <a:xfrm>
            <a:off x="1254240" y="1981080"/>
            <a:ext cx="6634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tellite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a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50 milliseconds (1/4 second) delay between two Earth stations communicating via geosynchronous (GEO) satelli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ay noticeable for voice commun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ay requires special treatment of dat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CP/IP will assume network congestion or dropped packets with these delays; must use special parameters or equipment to spoof acknowledgeme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in absorp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n transit outage at equinox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wer is limited on satelli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mited signal to noise ratio, limits bandwid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rect Broadcast Satellite (DBS) satellites are overpowered to allow small consumer antennas; overall system costs are hig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ittle room left for satellites in equatorial (GEO) orbi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operate a diamond mine in northern Canada and need 20 Mbps to remotely monitor and diagnose mining equipment, provide Internet and some video for employees, handle email and files, et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e GEO, big LEO, little LEO, broadband LEO, MEO to meet your nee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would the other end of the satellite link connect? Does it matter? Options are your corporate HQ, a large peering point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 flipV="1">
            <a:off x="990720" y="3962160"/>
            <a:ext cx="7772400" cy="68580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886200" y="51055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il 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914400" y="3809880"/>
            <a:ext cx="11430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6019920" y="3886200"/>
            <a:ext cx="990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2362320" y="3124080"/>
            <a:ext cx="304560" cy="1295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2819520" y="4191120"/>
            <a:ext cx="30456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2956320" y="31640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ild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4191120" y="4267080"/>
            <a:ext cx="990360" cy="152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889440" y="380988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derpa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 flipH="1" flipV="1">
            <a:off x="3886200" y="44953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7529400" y="2782800"/>
            <a:ext cx="10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7315560" y="430704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lls, tre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you need 20 Mbps up and down in northern Can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 offers max 18 Mbps down and 4 Mbps up, and not in all area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lar areas are strange: beams are turned off from lack of demand but could possibly be turned 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ight need 5 connections, which would be expensive…but a diamond mine can probably pay 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 LEO and Little LEO are low bandwid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O does not offer data serv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adband LEO (Teledesic) fail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y connect near corporate HQ to use MAN from ground station to HQ for cost, bandwidth, security reas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838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SS: Basic service set (WiF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S: Extended service set (WiF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P: Wired Equivalent Privacy (WiFi securit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PA: WiFi Protected Access (WiFi securit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R: Specialized Mobile Rad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MA: Code Division Multiple Access (US wireles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M: Global System for Mobile Communications (wireless voice standard, worldwid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PRS: General Packet Radio Service, over GS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CDMA: Wideband Code Division Multiple Access (3G data standar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SPA: High Speed Packet Access (3G data st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GPP: 3G Partnership Project (sets 3G/4G std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x EV-DO: Evolution-Data Optimized (3G CDMA st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ro are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cellular data carri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on train chooses best signal, maintains continu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WiFi (wireless LAN) at st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nels (short ones)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on train caches Web content, handles email via store and forwa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ng tunnels require leaky fiber and/or base st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ral area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cellular data  carriers, and satellite servi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in train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tennas mounted on multiple cars, wireless LAN between cars so any antenna can serve all ca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, application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 train server manages traffic, ensures ‘fairness’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handles authentication and bill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How do long distance trucking, buses do this?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examp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9" name="Picture 4" descr="RailWirelessLec22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540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6603120" y="6581880"/>
            <a:ext cx="22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pointshotwireless.co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example: Amtrak wireless coverag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5072040" cy="558144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7294320" y="6400800"/>
            <a:ext cx="168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: Amtra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adio propag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se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ee space lo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mospheric attenuation: rain, water, du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ath loss: water body or fog causes reflections, and signals arrive out of phase at destin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ffraction: hills, buildings, obstru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tenna proble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now, icing (use heaters, radom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oning restrictions (hide antennas in building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wave frequencies are line of sig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have like light, can be focused and refl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issues hold for mobile phones, wireless data, satellites als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adio lo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7" name="Picture 4" descr="Lec21b"/>
          <p:cNvPicPr/>
          <p:nvPr/>
        </p:nvPicPr>
        <p:blipFill>
          <a:blip r:embed="rId1"/>
          <a:stretch/>
        </p:blipFill>
        <p:spPr>
          <a:xfrm>
            <a:off x="2286000" y="990720"/>
            <a:ext cx="4479840" cy="217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Lec21c"/>
          <p:cNvPicPr/>
          <p:nvPr/>
        </p:nvPicPr>
        <p:blipFill>
          <a:blip r:embed="rId2"/>
          <a:stretch/>
        </p:blipFill>
        <p:spPr>
          <a:xfrm>
            <a:off x="1905120" y="3352680"/>
            <a:ext cx="5329080" cy="33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reless LAN (WiFi) standard is IEEE 802.1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types of wireless L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d ho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where stations (computers) directly conn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nfrastructu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with an access point (AP) that connects to a wired LAN and usually a MAN/W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ributed coordination required between stations due to colli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sense multiple access/collision avoidance (CSMA/CA) protocol is used, as discussed earli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reless environment is very noi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ames are fragmented into small frames so retransmission, which is frequent, is more effici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2-06T00:37:43Z</cp:lastPrinted>
  <dcterms:modified xsi:type="dcterms:W3CDTF">2013-12-07T14:39:08Z</dcterms:modified>
  <cp:revision>257</cp:revision>
  <dc:subject/>
  <dc:title>1.264 Lecture 5</dc:title>
</cp:coreProperties>
</file>